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2"/>
          </p:nvPr>
        </p:nvSpPr>
        <p:spPr>
          <a:xfrm>
            <a:off x="3859200" y="-36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3"/>
          </p:nvPr>
        </p:nvSpPr>
        <p:spPr>
          <a:xfrm>
            <a:off x="0" y="944532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4"/>
          </p:nvPr>
        </p:nvSpPr>
        <p:spPr>
          <a:xfrm>
            <a:off x="3859200" y="944532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E14F08-5AA8-47D5-AF34-65DC5C7DA9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80D869-9071-46BB-9312-B696DC6BEBB0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6EECCA-4ECF-4EFF-B698-E55CB8BFC4FE}" type="slidenum">
              <a:rPr b="1" lang="en-US" sz="1200" spc="-1" strike="noStrike">
                <a:solidFill>
                  <a:srgbClr val="1f497d"/>
                </a:solidFill>
                <a:latin typeface="Century Gothic"/>
                <a:ea typeface="HY중고딕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860CDD-2855-41C8-8987-C592FD85E91E}" type="slidenum">
              <a:rPr b="1" lang="en-US" sz="1200" spc="-1" strike="noStrike">
                <a:solidFill>
                  <a:srgbClr val="1f497d"/>
                </a:solidFill>
                <a:latin typeface="Century Gothic"/>
                <a:ea typeface="HY중고딕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BDCE98-72A2-4B3C-841A-F6273D00E6C5}" type="slidenum">
              <a:rPr b="1" lang="en-US" sz="1200" spc="-1" strike="noStrike">
                <a:solidFill>
                  <a:srgbClr val="1f497d"/>
                </a:solidFill>
                <a:latin typeface="Century Gothic"/>
                <a:ea typeface="HY중고딕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3680" y="934920"/>
            <a:ext cx="4700520" cy="3527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2600" y="4701960"/>
            <a:ext cx="4995720" cy="4478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09F3D-7203-4415-A8B2-124301754B59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맑은 고딕"/>
              <a:ea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3CF608-CE37-403B-8786-891300315E53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75D26-C4E9-40B1-8F62-F95F3BC84023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CE01F-3983-47F9-84E5-6B2628497027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03F0A-D8D0-449F-B20E-CDFF63C03D65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D192A3-62FF-437A-A69A-0DC93317ED2A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59200" y="944568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73369-DEF7-40A1-8C2C-24169A9939F2}" type="slidenum">
              <a:rPr b="1" lang="ko-KR" sz="1200" spc="-1" strike="noStrike">
                <a:solidFill>
                  <a:srgbClr val="ffffff"/>
                </a:solidFill>
                <a:latin typeface="굴림체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BD2A-D68E-47E2-9AFD-75DE7893E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598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979800"/>
            <a:ext cx="82598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2ABB-17AF-47E3-8CCD-320771DC4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780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9F2E-535B-4BE4-9218-AFA85FAFD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7800" y="119664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0680" y="119664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97980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7800" y="397980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0680" y="397980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E5DF-D8CB-443D-AC9A-024773E7A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9528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5C04-CD99-4B81-8325-E9C9DC1CC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2780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5280" y="3979800"/>
            <a:ext cx="82598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598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5280" y="3979800"/>
            <a:ext cx="82598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528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2780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87800" y="119664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80680" y="119664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5280" y="397980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87800" y="397980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80680" y="3979800"/>
            <a:ext cx="2659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FAAF-AA89-4C53-B727-6B09F77EF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6EFB-8E5C-43E9-9981-59ABE2167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8420-3710-419F-B1AD-F5C65539B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6CE4-6DB0-4541-989C-8AA36C2C3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DC9E-B113-4330-9C88-0AC4397B4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7800" y="397980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ADE8-CE0D-4D02-A548-65E46B298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7800" y="1196640"/>
            <a:ext cx="4030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979800"/>
            <a:ext cx="82598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0220-6C62-4373-B10A-832730343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1131840" y="1000080"/>
            <a:ext cx="7832880" cy="5423040"/>
          </a:xfrm>
          <a:prstGeom prst="rect">
            <a:avLst/>
          </a:prstGeom>
          <a:gradFill rotWithShape="0">
            <a:gsLst>
              <a:gs pos="0">
                <a:srgbClr val="cff1fd"/>
              </a:gs>
              <a:gs pos="100000">
                <a:srgbClr val="9db6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5174"/>
              </a:gs>
              <a:gs pos="100000">
                <a:srgbClr val="1025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1608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2396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7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EDB-489F-4361-9ACC-0DFDC1A76E69}" type="slidenum">
              <a:rPr b="0" lang="en-US" sz="1400" spc="-1" strike="noStrike">
                <a:solidFill>
                  <a:srgbClr val="ffffe7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0" descr="kita"/>
          <p:cNvPicPr/>
          <p:nvPr/>
        </p:nvPicPr>
        <p:blipFill>
          <a:blip r:embed="rId2"/>
          <a:stretch/>
        </p:blipFill>
        <p:spPr>
          <a:xfrm>
            <a:off x="8028000" y="6605640"/>
            <a:ext cx="936720" cy="208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1" descr="#01메인2"/>
          <p:cNvPicPr/>
          <p:nvPr/>
        </p:nvPicPr>
        <p:blipFill>
          <a:blip r:embed="rId3"/>
          <a:srcRect l="0" t="0" r="71307" b="82226"/>
          <a:stretch/>
        </p:blipFill>
        <p:spPr>
          <a:xfrm>
            <a:off x="34920" y="146160"/>
            <a:ext cx="2016000" cy="936360"/>
          </a:xfrm>
          <a:prstGeom prst="rect">
            <a:avLst/>
          </a:prstGeom>
          <a:ln w="0">
            <a:noFill/>
          </a:ln>
        </p:spPr>
      </p:pic>
      <p:sp>
        <p:nvSpPr>
          <p:cNvPr id="7" name="Line 24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5148360" y="1450800"/>
            <a:ext cx="3744720" cy="3816000"/>
            <a:chOff x="5148360" y="1450800"/>
            <a:chExt cx="3744720" cy="3816000"/>
          </a:xfrm>
        </p:grpSpPr>
        <p:sp>
          <p:nvSpPr>
            <p:cNvPr id="45" name="AutoShape 3"/>
            <p:cNvSpPr/>
            <p:nvPr/>
          </p:nvSpPr>
          <p:spPr>
            <a:xfrm>
              <a:off x="5148360" y="1457640"/>
              <a:ext cx="3744720" cy="3767040"/>
            </a:xfrm>
            <a:custGeom>
              <a:avLst/>
              <a:gdLst>
                <a:gd name="textAreaLeft" fmla="*/ 548640 w 3744720"/>
                <a:gd name="textAreaRight" fmla="*/ 3196080 w 3744720"/>
                <a:gd name="textAreaTop" fmla="*/ 550800 h 3767040"/>
                <a:gd name="textAreaBottom" fmla="*/ 3216240 h 37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5707800" y="4524840"/>
              <a:ext cx="445680" cy="3380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6346440" y="2622960"/>
              <a:ext cx="577440" cy="264384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2643840"/>
                <a:gd name="textAreaBottom" fmla="*/ 2644200 h 2643840"/>
              </a:gdLst>
              <a:ahLst/>
              <a:rect l="textAreaLeft" t="textAreaTop" r="textAreaRight" b="textAreaBottom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6844320" y="2578320"/>
              <a:ext cx="587160" cy="25747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574720"/>
                <a:gd name="textAreaBottom" fmla="*/ 2575080 h 2574720"/>
              </a:gdLst>
              <a:ahLst/>
              <a:rect l="textAreaLeft" t="textAreaTop" r="textAreaRight" b="textAreaBottom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7184160" y="2377440"/>
              <a:ext cx="825480" cy="26636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8055000" y="2659680"/>
              <a:ext cx="465120" cy="20952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698440" y="3304440"/>
              <a:ext cx="785520" cy="180936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1809360"/>
                <a:gd name="textAreaBottom" fmla="*/ 1809720 h 1809360"/>
              </a:gdLst>
              <a:ahLst/>
              <a:rect l="textAreaLeft" t="textAreaTop" r="textAreaRight" b="textAreaBottom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7048080" y="1616040"/>
              <a:ext cx="899640" cy="269280"/>
            </a:xfrm>
            <a:custGeom>
              <a:avLst/>
              <a:gdLst>
                <a:gd name="textAreaLeft" fmla="*/ 0 w 899640"/>
                <a:gd name="textAreaRight" fmla="*/ 900000 w 8996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7258320" y="1991880"/>
              <a:ext cx="691920" cy="113400"/>
            </a:xfrm>
            <a:custGeom>
              <a:avLst/>
              <a:gdLst>
                <a:gd name="textAreaLeft" fmla="*/ 0 w 691920"/>
                <a:gd name="textAreaRight" fmla="*/ 692280 w 6919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6873480" y="1450800"/>
              <a:ext cx="280440" cy="34632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6613200" y="1485720"/>
              <a:ext cx="92160" cy="40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5877360" y="2637000"/>
              <a:ext cx="2320560" cy="854280"/>
            </a:xfrm>
            <a:custGeom>
              <a:avLst/>
              <a:gdLst>
                <a:gd name="textAreaLeft" fmla="*/ 0 w 2320560"/>
                <a:gd name="textAreaRight" fmla="*/ 2320920 w 232056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5296680" y="2830680"/>
              <a:ext cx="3545280" cy="1541160"/>
            </a:xfrm>
            <a:custGeom>
              <a:avLst/>
              <a:gdLst>
                <a:gd name="textAreaLeft" fmla="*/ 0 w 3545280"/>
                <a:gd name="textAreaRight" fmla="*/ 3545640 w 354528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6089040" y="3993120"/>
              <a:ext cx="2694960" cy="990360"/>
            </a:xfrm>
            <a:custGeom>
              <a:avLst/>
              <a:gdLst>
                <a:gd name="textAreaLeft" fmla="*/ 0 w 2694960"/>
                <a:gd name="textAreaRight" fmla="*/ 2695320 w 26949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7086600" y="1729440"/>
              <a:ext cx="1751400" cy="1423440"/>
            </a:xfrm>
            <a:custGeom>
              <a:avLst/>
              <a:gdLst>
                <a:gd name="textAreaLeft" fmla="*/ 0 w 1751400"/>
                <a:gd name="textAreaRight" fmla="*/ 1751760 w 1751400"/>
                <a:gd name="textAreaTop" fmla="*/ 0 h 1423440"/>
                <a:gd name="textAreaBottom" fmla="*/ 1423800 h 1423440"/>
              </a:gdLst>
              <a:ahLst/>
              <a:rect l="textAreaLeft" t="textAreaTop" r="textAreaRight" b="textAreaBottom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7375320" y="1740600"/>
              <a:ext cx="287640" cy="263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6873480" y="1667880"/>
              <a:ext cx="619920" cy="48636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6976440" y="1548720"/>
              <a:ext cx="239400" cy="218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5148360" y="1558440"/>
              <a:ext cx="2008440" cy="250884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2508840"/>
                <a:gd name="textAreaBottom" fmla="*/ 2509200 h 2508840"/>
              </a:gdLst>
              <a:ahLst/>
              <a:rect l="textAreaLeft" t="textAreaTop" r="textAreaRight" b="textAreaBottom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6465960" y="4781520"/>
              <a:ext cx="550080" cy="4136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6336720" y="4665240"/>
              <a:ext cx="543240" cy="18324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5361120" y="4098600"/>
              <a:ext cx="184320" cy="249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5540040" y="3983760"/>
              <a:ext cx="109800" cy="3700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5705280" y="3694680"/>
              <a:ext cx="354600" cy="3139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69" name="AutoShape 27"/>
            <p:cNvSpPr/>
            <p:nvPr/>
          </p:nvSpPr>
          <p:spPr>
            <a:xfrm rot="10800000">
              <a:off x="6210000" y="178704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pic>
        <p:nvPicPr>
          <p:cNvPr id="70" name="Picture 28" descr="globe"/>
          <p:cNvPicPr/>
          <p:nvPr/>
        </p:nvPicPr>
        <p:blipFill>
          <a:blip r:embed="rId3"/>
          <a:srcRect l="0" t="0" r="14949" b="0"/>
          <a:stretch/>
        </p:blipFill>
        <p:spPr>
          <a:xfrm>
            <a:off x="0" y="0"/>
            <a:ext cx="2050920" cy="5300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9"/>
          <p:cNvSpPr/>
          <p:nvPr/>
        </p:nvSpPr>
        <p:spPr>
          <a:xfrm>
            <a:off x="11160" y="5229360"/>
            <a:ext cx="9132840" cy="1628640"/>
          </a:xfrm>
          <a:prstGeom prst="rect">
            <a:avLst/>
          </a:prstGeom>
          <a:gradFill rotWithShape="0">
            <a:gsLst>
              <a:gs pos="0">
                <a:srgbClr val="102536"/>
              </a:gs>
              <a:gs pos="100000">
                <a:srgbClr val="2251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grpSp>
        <p:nvGrpSpPr>
          <p:cNvPr id="72" name="Group 33"/>
          <p:cNvGrpSpPr/>
          <p:nvPr/>
        </p:nvGrpSpPr>
        <p:grpSpPr>
          <a:xfrm>
            <a:off x="-720" y="1440"/>
            <a:ext cx="9149400" cy="6856920"/>
            <a:chOff x="-720" y="1440"/>
            <a:chExt cx="9149400" cy="6856920"/>
          </a:xfrm>
        </p:grpSpPr>
        <p:sp>
          <p:nvSpPr>
            <p:cNvPr id="73" name="AutoShape 34"/>
            <p:cNvSpPr/>
            <p:nvPr/>
          </p:nvSpPr>
          <p:spPr>
            <a:xfrm>
              <a:off x="42840" y="3960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4680" y="144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 rot="16191000">
              <a:off x="-74520" y="639900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 rot="10768800">
              <a:off x="8765640" y="6400080"/>
              <a:ext cx="368280" cy="4554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5400000">
              <a:off x="8691480" y="108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pic>
        <p:nvPicPr>
          <p:cNvPr id="78" name="Picture 41" descr="kita"/>
          <p:cNvPicPr/>
          <p:nvPr/>
        </p:nvPicPr>
        <p:blipFill>
          <a:blip r:embed="rId4"/>
          <a:stretch/>
        </p:blipFill>
        <p:spPr>
          <a:xfrm>
            <a:off x="468360" y="442800"/>
            <a:ext cx="172728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4" descr="#01메인2"/>
          <p:cNvPicPr/>
          <p:nvPr/>
        </p:nvPicPr>
        <p:blipFill>
          <a:blip r:embed="rId5"/>
          <a:srcRect l="0" t="0" r="71307" b="82226"/>
          <a:stretch/>
        </p:blipFill>
        <p:spPr>
          <a:xfrm>
            <a:off x="3203640" y="5157720"/>
            <a:ext cx="262404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1608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2396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643040" y="155736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staining progress on trade facilitation : How Republic of Korea did it</a:t>
            </a:r>
            <a:endParaRPr b="1" lang="en-US" sz="32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403280" y="3789360"/>
            <a:ext cx="662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체"/>
              </a:rPr>
              <a:t>Sang-Hyeon Jo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체"/>
              </a:rPr>
              <a:t>Korea Paperless Trade Office , KITA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ITRAL model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ability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per logging mechanis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preventing reuse of wrong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clarifying mistakes and forger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ic signa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security mechanis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2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ic docu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functional equivalence of electronic documents to paper docu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acceptance of their evidentiary value in cour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168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울릉도M"/>
              </a:rPr>
              <a:t>Paperless Trade in Ko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71" descr=""/>
          <p:cNvPicPr/>
          <p:nvPr/>
        </p:nvPicPr>
        <p:blipFill>
          <a:blip r:embed="rId1"/>
          <a:stretch/>
        </p:blipFill>
        <p:spPr>
          <a:xfrm>
            <a:off x="4535640" y="3906720"/>
            <a:ext cx="4309920" cy="1824120"/>
          </a:xfrm>
          <a:prstGeom prst="rect">
            <a:avLst/>
          </a:prstGeom>
          <a:ln w="0">
            <a:noFill/>
          </a:ln>
        </p:spPr>
      </p:pic>
      <p:pic>
        <p:nvPicPr>
          <p:cNvPr id="150" name="차트 9" descr=""/>
          <p:cNvPicPr/>
          <p:nvPr/>
        </p:nvPicPr>
        <p:blipFill>
          <a:blip r:embed="rId2"/>
          <a:stretch/>
        </p:blipFill>
        <p:spPr>
          <a:xfrm>
            <a:off x="-378000" y="3206880"/>
            <a:ext cx="4962600" cy="324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C:\Documents and Settings\kita-user\Local Settings\Temporary Internet Files\Content.IE5\W33RIOLL\MMj02544900000[1].gif"/>
          <p:cNvPicPr/>
          <p:nvPr/>
        </p:nvPicPr>
        <p:blipFill>
          <a:blip r:embed="rId3"/>
          <a:stretch/>
        </p:blipFill>
        <p:spPr>
          <a:xfrm>
            <a:off x="628560" y="1285920"/>
            <a:ext cx="1231920" cy="1500120"/>
          </a:xfrm>
          <a:prstGeom prst="rect">
            <a:avLst/>
          </a:prstGeom>
          <a:ln w="0">
            <a:noFill/>
          </a:ln>
        </p:spPr>
      </p:pic>
      <p:sp>
        <p:nvSpPr>
          <p:cNvPr id="152" name="모서리가 둥근 사각형 설명선 17"/>
          <p:cNvSpPr/>
          <p:nvPr/>
        </p:nvSpPr>
        <p:spPr>
          <a:xfrm rot="5400000">
            <a:off x="4885920" y="-971280"/>
            <a:ext cx="1714320" cy="622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81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pic>
        <p:nvPicPr>
          <p:cNvPr id="153" name="Rectangle 71" descr=""/>
          <p:cNvPicPr/>
          <p:nvPr/>
        </p:nvPicPr>
        <p:blipFill>
          <a:blip r:embed="rId4"/>
          <a:stretch/>
        </p:blipFill>
        <p:spPr>
          <a:xfrm>
            <a:off x="2693880" y="1384200"/>
            <a:ext cx="6212160" cy="1554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714240" y="4086360"/>
            <a:ext cx="889200" cy="307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굴림체"/>
              </a:rPr>
              <a:t>export</a:t>
            </a:r>
            <a:endParaRPr b="1" lang="en-US" sz="14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711360" y="4397400"/>
            <a:ext cx="888840" cy="307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굴림체"/>
              </a:rPr>
              <a:t>import</a:t>
            </a:r>
            <a:endParaRPr b="1" lang="en-US" sz="14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156" name="제목 1"/>
          <p:cNvSpPr/>
          <p:nvPr/>
        </p:nvSpPr>
        <p:spPr>
          <a:xfrm>
            <a:off x="137160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Needs for Paperless Trade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1425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ment &amp; Dissemination of Paperless Trading Sys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lestone of Paperless Trade in Kor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de Automation Act(198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7520" indent="-271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 national competitiveness by cutting costs through automated transaction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ment of KTNET(199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7520" indent="-271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100% investment holding subsidiary of KI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7520" indent="-271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ing IT based projects between public and private sec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7520" indent="-271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ole designated system operator for uTradeHu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7520" indent="-271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ervice provider of the national paperless trade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15984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그룹 12"/>
          <p:cNvGrpSpPr/>
          <p:nvPr/>
        </p:nvGrpSpPr>
        <p:grpSpPr>
          <a:xfrm>
            <a:off x="928800" y="1785960"/>
            <a:ext cx="7500960" cy="1500120"/>
            <a:chOff x="928800" y="1785960"/>
            <a:chExt cx="7500960" cy="1500120"/>
          </a:xfrm>
        </p:grpSpPr>
        <p:pic>
          <p:nvPicPr>
            <p:cNvPr id="160" name="직사각형 13" descr=""/>
            <p:cNvPicPr/>
            <p:nvPr/>
          </p:nvPicPr>
          <p:blipFill>
            <a:blip r:embed="rId1"/>
            <a:stretch/>
          </p:blipFill>
          <p:spPr>
            <a:xfrm>
              <a:off x="928800" y="1785960"/>
              <a:ext cx="191880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직사각형 14" descr=""/>
            <p:cNvPicPr/>
            <p:nvPr/>
          </p:nvPicPr>
          <p:blipFill>
            <a:blip r:embed="rId2"/>
            <a:stretch/>
          </p:blipFill>
          <p:spPr>
            <a:xfrm>
              <a:off x="2944080" y="1785960"/>
              <a:ext cx="166536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직사각형 15" descr=""/>
            <p:cNvPicPr/>
            <p:nvPr/>
          </p:nvPicPr>
          <p:blipFill>
            <a:blip r:embed="rId3"/>
            <a:stretch/>
          </p:blipFill>
          <p:spPr>
            <a:xfrm>
              <a:off x="4857480" y="1785960"/>
              <a:ext cx="16592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직사각형 16" descr=""/>
            <p:cNvPicPr/>
            <p:nvPr/>
          </p:nvPicPr>
          <p:blipFill>
            <a:blip r:embed="rId4"/>
            <a:stretch/>
          </p:blipFill>
          <p:spPr>
            <a:xfrm>
              <a:off x="6764400" y="1785960"/>
              <a:ext cx="166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오른쪽 화살표 17"/>
            <p:cNvSpPr/>
            <p:nvPr/>
          </p:nvSpPr>
          <p:spPr>
            <a:xfrm>
              <a:off x="2611440" y="2152440"/>
              <a:ext cx="565560" cy="430920"/>
            </a:xfrm>
            <a:prstGeom prst="rightArrow">
              <a:avLst>
                <a:gd name="adj1" fmla="val 50000"/>
                <a:gd name="adj2" fmla="val 5067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165" name="오른쪽 화살표 18"/>
            <p:cNvSpPr/>
            <p:nvPr/>
          </p:nvSpPr>
          <p:spPr>
            <a:xfrm>
              <a:off x="4520880" y="2152440"/>
              <a:ext cx="565560" cy="430920"/>
            </a:xfrm>
            <a:prstGeom prst="rightArrow">
              <a:avLst>
                <a:gd name="adj1" fmla="val 50000"/>
                <a:gd name="adj2" fmla="val 5067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166" name="오른쪽 화살표 19"/>
            <p:cNvSpPr/>
            <p:nvPr/>
          </p:nvSpPr>
          <p:spPr>
            <a:xfrm>
              <a:off x="6430680" y="2152440"/>
              <a:ext cx="565560" cy="430920"/>
            </a:xfrm>
            <a:prstGeom prst="rightArrow">
              <a:avLst>
                <a:gd name="adj1" fmla="val 50000"/>
                <a:gd name="adj2" fmla="val 5067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motion by public opin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nsus on online paperless trading system for easy acces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work efficienc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ject for building a paperless trading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option as one of the e-Government proje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m : transferring VAN EDI-based trade automation system to Internet-based trading system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ional e-Trade Committee (established in 200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제목 1"/>
          <p:cNvSpPr/>
          <p:nvPr/>
        </p:nvSpPr>
        <p:spPr>
          <a:xfrm>
            <a:off x="1371600" y="142920"/>
            <a:ext cx="746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Establishment &amp; Dissemination of Paperless Trading System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  <p:pic>
        <p:nvPicPr>
          <p:cNvPr id="169" name="Rectangle 71" descr=""/>
          <p:cNvPicPr/>
          <p:nvPr/>
        </p:nvPicPr>
        <p:blipFill>
          <a:blip r:embed="rId1"/>
          <a:stretch/>
        </p:blipFill>
        <p:spPr>
          <a:xfrm>
            <a:off x="933480" y="4621320"/>
            <a:ext cx="730872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6"/>
          <p:cNvSpPr/>
          <p:nvPr/>
        </p:nvSpPr>
        <p:spPr>
          <a:xfrm>
            <a:off x="0" y="1285920"/>
            <a:ext cx="8540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Paperless Trade Governance in Korea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</p:txBody>
      </p:sp>
      <p:grpSp>
        <p:nvGrpSpPr>
          <p:cNvPr id="171" name="그룹 6"/>
          <p:cNvGrpSpPr/>
          <p:nvPr/>
        </p:nvGrpSpPr>
        <p:grpSpPr>
          <a:xfrm>
            <a:off x="1071720" y="2071800"/>
            <a:ext cx="6929280" cy="3571920"/>
            <a:chOff x="1071720" y="2071800"/>
            <a:chExt cx="6929280" cy="3571920"/>
          </a:xfrm>
        </p:grpSpPr>
        <p:pic>
          <p:nvPicPr>
            <p:cNvPr id="172" name="_x68648920" descr="EMB00000f442302"/>
            <p:cNvPicPr/>
            <p:nvPr/>
          </p:nvPicPr>
          <p:blipFill>
            <a:blip r:embed="rId1">
              <a:lum contrast="-10000"/>
            </a:blip>
            <a:stretch/>
          </p:blipFill>
          <p:spPr>
            <a:xfrm>
              <a:off x="1071720" y="2071800"/>
              <a:ext cx="6929280" cy="35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"/>
            <p:cNvPicPr/>
            <p:nvPr/>
          </p:nvPicPr>
          <p:blipFill>
            <a:blip r:embed="rId2">
              <a:lum contrast="-10000"/>
            </a:blip>
            <a:stretch/>
          </p:blipFill>
          <p:spPr>
            <a:xfrm>
              <a:off x="6803640" y="3086640"/>
              <a:ext cx="1154880" cy="311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4" descr="3"/>
          <p:cNvPicPr/>
          <p:nvPr/>
        </p:nvPicPr>
        <p:blipFill>
          <a:blip r:embed="rId3"/>
          <a:stretch/>
        </p:blipFill>
        <p:spPr>
          <a:xfrm>
            <a:off x="380880" y="1257480"/>
            <a:ext cx="355680" cy="457200"/>
          </a:xfrm>
          <a:prstGeom prst="rect">
            <a:avLst/>
          </a:prstGeom>
          <a:ln w="0">
            <a:noFill/>
          </a:ln>
        </p:spPr>
      </p:pic>
      <p:sp>
        <p:nvSpPr>
          <p:cNvPr id="175" name="제목 1"/>
          <p:cNvSpPr/>
          <p:nvPr/>
        </p:nvSpPr>
        <p:spPr>
          <a:xfrm>
            <a:off x="1371600" y="142920"/>
            <a:ext cx="746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Establishment &amp; Dissemination of Paperless Trading System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제목 1"/>
          <p:cNvSpPr/>
          <p:nvPr/>
        </p:nvSpPr>
        <p:spPr>
          <a:xfrm>
            <a:off x="1371600" y="142920"/>
            <a:ext cx="746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Establishment &amp; Dissemination of Paperless Trading System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  <p:pic>
        <p:nvPicPr>
          <p:cNvPr id="177" name="Picture 2" descr="C:\Documents and Settings\kita-user\Local Settings\Temporary Internet Files\Content.IE5\Q9B41O7I\KITA Twitter Skin 1[1].JPG"/>
          <p:cNvPicPr/>
          <p:nvPr/>
        </p:nvPicPr>
        <p:blipFill>
          <a:blip r:embed="rId1"/>
          <a:stretch/>
        </p:blipFill>
        <p:spPr>
          <a:xfrm>
            <a:off x="7072200" y="2286000"/>
            <a:ext cx="1857600" cy="3214800"/>
          </a:xfrm>
          <a:prstGeom prst="rect">
            <a:avLst/>
          </a:prstGeom>
          <a:ln w="0">
            <a:noFill/>
          </a:ln>
        </p:spPr>
      </p:pic>
      <p:sp>
        <p:nvSpPr>
          <p:cNvPr id="178" name="내용 개체 틀 2"/>
          <p:cNvSpPr/>
          <p:nvPr/>
        </p:nvSpPr>
        <p:spPr>
          <a:xfrm>
            <a:off x="395280" y="1197000"/>
            <a:ext cx="82598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Korea Paperless Trade Office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Established in 2005 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The secretariat and PMO(Project Management Office) 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of the National Electronic Trade Committee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consolidation between public and private sectors 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KITA (established in 1946)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Korea International Trade Association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Korea's foremost trade promotion organization with 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65,000 member firms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Supporting Korea's business community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WTCS(World Trade Center Seoul), an access to one-stop business</a:t>
            </a:r>
            <a:endParaRPr b="1" lang="en-US" sz="1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714240" y="1928880"/>
            <a:ext cx="7666200" cy="452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onsumer"/>
          <p:cNvPicPr/>
          <p:nvPr/>
        </p:nvPicPr>
        <p:blipFill>
          <a:blip r:embed="rId2"/>
          <a:stretch/>
        </p:blipFill>
        <p:spPr>
          <a:xfrm>
            <a:off x="851040" y="3075120"/>
            <a:ext cx="566640" cy="506160"/>
          </a:xfrm>
          <a:prstGeom prst="rect">
            <a:avLst/>
          </a:prstGeom>
          <a:ln w="0">
            <a:noFill/>
          </a:ln>
        </p:spPr>
      </p:pic>
      <p:sp>
        <p:nvSpPr>
          <p:cNvPr id="181" name="직사각형 4"/>
          <p:cNvSpPr/>
          <p:nvPr/>
        </p:nvSpPr>
        <p:spPr>
          <a:xfrm>
            <a:off x="2127240" y="2050920"/>
            <a:ext cx="3511440" cy="328932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ash"/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0" y="1285920"/>
            <a:ext cx="8540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oncept of uTradeHub</a:t>
            </a:r>
            <a:endParaRPr b="1" lang="en-US" sz="2400" spc="-1" strike="noStrike">
              <a:solidFill>
                <a:srgbClr val="ffffff"/>
              </a:solidFill>
              <a:latin typeface="굴림체"/>
            </a:endParaRPr>
          </a:p>
        </p:txBody>
      </p:sp>
      <p:pic>
        <p:nvPicPr>
          <p:cNvPr id="183" name="Picture 4" descr="3"/>
          <p:cNvPicPr/>
          <p:nvPr/>
        </p:nvPicPr>
        <p:blipFill>
          <a:blip r:embed="rId3"/>
          <a:stretch/>
        </p:blipFill>
        <p:spPr>
          <a:xfrm>
            <a:off x="380880" y="1257480"/>
            <a:ext cx="35568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제목 1"/>
          <p:cNvSpPr/>
          <p:nvPr/>
        </p:nvSpPr>
        <p:spPr>
          <a:xfrm>
            <a:off x="1371600" y="142920"/>
            <a:ext cx="746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Establishment &amp; Dissemination of Paperless Trading System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380880" y="1185840"/>
            <a:ext cx="3376440" cy="457200"/>
            <a:chOff x="380880" y="1185840"/>
            <a:chExt cx="3376440" cy="457200"/>
          </a:xfrm>
        </p:grpSpPr>
        <p:sp>
          <p:nvSpPr>
            <p:cNvPr id="186" name="Rectangle 3"/>
            <p:cNvSpPr/>
            <p:nvPr/>
          </p:nvSpPr>
          <p:spPr>
            <a:xfrm>
              <a:off x="452520" y="1203480"/>
              <a:ext cx="330480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e83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HY견고딕"/>
                </a:rPr>
                <a:t>Course of Actions</a:t>
              </a:r>
              <a:endParaRPr b="1" lang="en-US" sz="24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pic>
          <p:nvPicPr>
            <p:cNvPr id="187" name="Picture 4" descr="3"/>
            <p:cNvPicPr/>
            <p:nvPr/>
          </p:nvPicPr>
          <p:blipFill>
            <a:blip r:embed="rId1"/>
            <a:stretch/>
          </p:blipFill>
          <p:spPr>
            <a:xfrm>
              <a:off x="380880" y="1185840"/>
              <a:ext cx="355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5"/>
          <p:cNvGrpSpPr/>
          <p:nvPr/>
        </p:nvGrpSpPr>
        <p:grpSpPr>
          <a:xfrm>
            <a:off x="228600" y="1828800"/>
            <a:ext cx="3973680" cy="5029200"/>
            <a:chOff x="228600" y="1828800"/>
            <a:chExt cx="3973680" cy="5029200"/>
          </a:xfrm>
        </p:grpSpPr>
        <p:pic>
          <p:nvPicPr>
            <p:cNvPr id="189" name="Picture 6" descr="1"/>
            <p:cNvPicPr/>
            <p:nvPr/>
          </p:nvPicPr>
          <p:blipFill>
            <a:blip r:embed="rId2"/>
            <a:stretch/>
          </p:blipFill>
          <p:spPr>
            <a:xfrm>
              <a:off x="228600" y="2562120"/>
              <a:ext cx="3973680" cy="42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7" descr="구"/>
            <p:cNvPicPr/>
            <p:nvPr/>
          </p:nvPicPr>
          <p:blipFill>
            <a:blip r:embed="rId3"/>
            <a:stretch/>
          </p:blipFill>
          <p:spPr>
            <a:xfrm flipH="1">
              <a:off x="483840" y="182880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8" descr="구"/>
            <p:cNvPicPr/>
            <p:nvPr/>
          </p:nvPicPr>
          <p:blipFill>
            <a:blip r:embed="rId4"/>
            <a:stretch/>
          </p:blipFill>
          <p:spPr>
            <a:xfrm flipH="1">
              <a:off x="1601640" y="3133800"/>
              <a:ext cx="132264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9" descr="구"/>
            <p:cNvPicPr/>
            <p:nvPr/>
          </p:nvPicPr>
          <p:blipFill>
            <a:blip r:embed="rId5"/>
            <a:stretch/>
          </p:blipFill>
          <p:spPr>
            <a:xfrm flipH="1">
              <a:off x="2703240" y="4440240"/>
              <a:ext cx="132228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10"/>
          <p:cNvGrpSpPr/>
          <p:nvPr/>
        </p:nvGrpSpPr>
        <p:grpSpPr>
          <a:xfrm>
            <a:off x="1763640" y="3202200"/>
            <a:ext cx="6899400" cy="1261800"/>
            <a:chOff x="1763640" y="3202200"/>
            <a:chExt cx="6899400" cy="1261800"/>
          </a:xfrm>
        </p:grpSpPr>
        <p:sp>
          <p:nvSpPr>
            <p:cNvPr id="194" name="Rectangle 11"/>
            <p:cNvSpPr/>
            <p:nvPr/>
          </p:nvSpPr>
          <p:spPr>
            <a:xfrm>
              <a:off x="1763640" y="3406320"/>
              <a:ext cx="97920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Phase2</a:t>
              </a:r>
              <a:endParaRPr b="1" lang="en-US" sz="2200" spc="-1" strike="noStrike">
                <a:solidFill>
                  <a:srgbClr val="ffffff"/>
                </a:solidFill>
                <a:latin typeface="굴림체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(’06</a:t>
              </a:r>
              <a:r>
                <a:rPr b="1" lang="en-US" sz="22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)</a:t>
              </a:r>
              <a:endParaRPr b="1" lang="en-US" sz="22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3786120" y="3202200"/>
              <a:ext cx="487692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9000" indent="-189000" algn="ctr">
                <a:lnSpc>
                  <a:spcPct val="100000"/>
                </a:lnSpc>
                <a:spcBef>
                  <a:spcPts val="499"/>
                </a:spcBef>
                <a:buClr>
                  <a:srgbClr val="ffff6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6d"/>
                  </a:solidFill>
                  <a:latin typeface="Arial"/>
                  <a:ea typeface="돋움체"/>
                </a:rPr>
                <a:t>Build a trade portal for traders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  <a:p>
              <a:pPr marL="189000" indent="-18900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d"/>
                  </a:solidFill>
                  <a:latin typeface="Arial"/>
                  <a:ea typeface="HY헤드라인M"/>
                </a:rPr>
                <a:t>    </a:t>
              </a:r>
              <a:r>
                <a:rPr b="0" lang="en-US" sz="1600" spc="-1" strike="noStrike">
                  <a:solidFill>
                    <a:srgbClr val="ffff6d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600" spc="-1" strike="noStrike">
                  <a:solidFill>
                    <a:srgbClr val="ffff6d"/>
                  </a:solidFill>
                  <a:latin typeface="Arial"/>
                  <a:ea typeface="돋움"/>
                </a:rPr>
                <a:t>  </a:t>
              </a:r>
              <a:r>
                <a:rPr b="0" lang="en-US" sz="1600" spc="-1" strike="noStrike">
                  <a:solidFill>
                    <a:srgbClr val="ffff6d"/>
                  </a:solidFill>
                  <a:latin typeface="Arial"/>
                  <a:ea typeface="돋움"/>
                </a:rPr>
                <a:t>License/Certification/Clearance support system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  <a:p>
              <a:pPr marL="189000" indent="-189000" algn="ctr">
                <a:lnSpc>
                  <a:spcPct val="100000"/>
                </a:lnSpc>
                <a:spcBef>
                  <a:spcPts val="499"/>
                </a:spcBef>
                <a:buClr>
                  <a:srgbClr val="ffff6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6d"/>
                  </a:solidFill>
                  <a:latin typeface="Arial"/>
                  <a:ea typeface="돋움체"/>
                </a:rPr>
                <a:t>Standardize documents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  <a:p>
              <a:pPr marL="189000" indent="-18900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d"/>
                  </a:solidFill>
                  <a:latin typeface="Arial"/>
                  <a:ea typeface="돋움"/>
                </a:rPr>
                <a:t>    </a:t>
              </a:r>
              <a:r>
                <a:rPr b="0" lang="en-US" sz="1600" spc="-1" strike="noStrike">
                  <a:solidFill>
                    <a:srgbClr val="ffff6d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600" spc="-1" strike="noStrike">
                  <a:solidFill>
                    <a:srgbClr val="ffff6d"/>
                  </a:solidFill>
                  <a:latin typeface="Arial"/>
                  <a:ea typeface="돋움"/>
                </a:rPr>
                <a:t> </a:t>
              </a:r>
              <a:r>
                <a:rPr b="0" lang="en-US" sz="1600" spc="-1" strike="noStrike">
                  <a:solidFill>
                    <a:srgbClr val="ffff6d"/>
                  </a:solidFill>
                  <a:latin typeface="Arial"/>
                  <a:ea typeface="돋움"/>
                </a:rPr>
                <a:t>ebXML based document standardization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2819520" y="3581280"/>
              <a:ext cx="1066680" cy="7621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336" h="864">
                  <a:moveTo>
                    <a:pt x="0" y="0"/>
                  </a:moveTo>
                  <a:lnTo>
                    <a:pt x="336" y="0"/>
                  </a:lnTo>
                  <a:lnTo>
                    <a:pt x="336" y="864"/>
                  </a:lnTo>
                </a:path>
              </a:pathLst>
            </a:custGeom>
            <a:noFill/>
            <a:ln w="9360">
              <a:solidFill>
                <a:srgbClr val="6094fd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2870280" y="4755600"/>
            <a:ext cx="5911920" cy="1340280"/>
            <a:chOff x="2870280" y="4755600"/>
            <a:chExt cx="5911920" cy="1340280"/>
          </a:xfrm>
        </p:grpSpPr>
        <p:sp>
          <p:nvSpPr>
            <p:cNvPr id="198" name="Rectangle 15"/>
            <p:cNvSpPr/>
            <p:nvPr/>
          </p:nvSpPr>
          <p:spPr>
            <a:xfrm>
              <a:off x="2870280" y="4755600"/>
              <a:ext cx="9792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Phase1</a:t>
              </a:r>
              <a:endParaRPr b="1" lang="en-US" sz="2200" spc="-1" strike="noStrike">
                <a:solidFill>
                  <a:srgbClr val="ffffff"/>
                </a:solidFill>
                <a:latin typeface="굴림체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(‘04-’05</a:t>
              </a:r>
              <a:r>
                <a:rPr b="1" lang="en-US" sz="10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)</a:t>
              </a: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3962520" y="4876920"/>
              <a:ext cx="380880" cy="12189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36" h="864">
                  <a:moveTo>
                    <a:pt x="0" y="0"/>
                  </a:moveTo>
                  <a:lnTo>
                    <a:pt x="336" y="0"/>
                  </a:lnTo>
                  <a:lnTo>
                    <a:pt x="336" y="864"/>
                  </a:lnTo>
                </a:path>
              </a:pathLst>
            </a:custGeom>
            <a:noFill/>
            <a:ln w="9360">
              <a:solidFill>
                <a:srgbClr val="6094fd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>
              <a:off x="4286160" y="4788720"/>
              <a:ext cx="4496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9000" indent="-189000" algn="ctr">
                <a:lnSpc>
                  <a:spcPct val="100000"/>
                </a:lnSpc>
                <a:spcBef>
                  <a:spcPts val="499"/>
                </a:spcBef>
                <a:buClr>
                  <a:srgbClr val="ffff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b6"/>
                  </a:solidFill>
                  <a:latin typeface="Arial"/>
                  <a:ea typeface="돋움체"/>
                </a:rPr>
                <a:t>Build Core Infrastructure of e-Trade Platform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  <a:p>
              <a:pPr marL="189000" indent="-18900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b6"/>
                  </a:solidFill>
                  <a:latin typeface="Arial"/>
                  <a:ea typeface="HY헤드라인M"/>
                </a:rPr>
                <a:t>   </a:t>
              </a:r>
              <a:r>
                <a:rPr b="0" lang="en-US" sz="1600" spc="-1" strike="noStrike">
                  <a:solidFill>
                    <a:srgbClr val="ffffb6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600" spc="-1" strike="noStrike">
                  <a:solidFill>
                    <a:srgbClr val="ffffb6"/>
                  </a:solidFill>
                  <a:latin typeface="Arial"/>
                  <a:ea typeface="돋움"/>
                </a:rPr>
                <a:t> </a:t>
              </a:r>
              <a:r>
                <a:rPr b="0" lang="en-US" sz="1600" spc="-1" strike="noStrike">
                  <a:solidFill>
                    <a:srgbClr val="ffffb6"/>
                  </a:solidFill>
                  <a:latin typeface="Arial"/>
                  <a:ea typeface="돋움"/>
                </a:rPr>
                <a:t>u-Trade document circulation system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  <a:p>
              <a:pPr marL="189000" indent="-18900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b6"/>
                  </a:solidFill>
                  <a:latin typeface="Arial"/>
                  <a:ea typeface="돋움"/>
                </a:rPr>
                <a:t>   </a:t>
              </a:r>
              <a:r>
                <a:rPr b="0" lang="en-US" sz="1600" spc="-1" strike="noStrike">
                  <a:solidFill>
                    <a:srgbClr val="ffffb6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600" spc="-1" strike="noStrike">
                  <a:solidFill>
                    <a:srgbClr val="ffffb6"/>
                  </a:solidFill>
                  <a:latin typeface="Arial"/>
                  <a:ea typeface="돋움"/>
                </a:rPr>
                <a:t> </a:t>
              </a:r>
              <a:r>
                <a:rPr b="0" lang="en-US" sz="1600" spc="-1" strike="noStrike">
                  <a:solidFill>
                    <a:srgbClr val="ffffb6"/>
                  </a:solidFill>
                  <a:latin typeface="Arial"/>
                  <a:ea typeface="돋움"/>
                </a:rPr>
                <a:t>e-L/C service system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grpSp>
        <p:nvGrpSpPr>
          <p:cNvPr id="201" name="Group 18"/>
          <p:cNvGrpSpPr/>
          <p:nvPr/>
        </p:nvGrpSpPr>
        <p:grpSpPr>
          <a:xfrm>
            <a:off x="643320" y="1759680"/>
            <a:ext cx="8314560" cy="1212120"/>
            <a:chOff x="643320" y="1759680"/>
            <a:chExt cx="8314560" cy="1212120"/>
          </a:xfrm>
        </p:grpSpPr>
        <p:sp>
          <p:nvSpPr>
            <p:cNvPr id="202" name="Rectangle 19"/>
            <p:cNvSpPr/>
            <p:nvPr/>
          </p:nvSpPr>
          <p:spPr>
            <a:xfrm>
              <a:off x="2643120" y="1759680"/>
              <a:ext cx="6314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9000" indent="-189000" algn="ctr">
                <a:lnSpc>
                  <a:spcPct val="100000"/>
                </a:lnSpc>
                <a:spcBef>
                  <a:spcPts val="499"/>
                </a:spcBef>
                <a:buClr>
                  <a:srgbClr val="f3f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3f300"/>
                  </a:solidFill>
                  <a:latin typeface="Arial"/>
                  <a:ea typeface="돋움체"/>
                </a:rPr>
                <a:t>Establish e-Trade Platform, uTradeHub for  all the trade related communities 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  <a:p>
              <a:pPr marL="189000" indent="-18900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3f300"/>
                  </a:solidFill>
                  <a:latin typeface="Arial"/>
                  <a:ea typeface="돋움체"/>
                </a:rPr>
                <a:t>   </a:t>
              </a:r>
              <a:r>
                <a:rPr b="0" lang="en-US" sz="1600" spc="-1" strike="noStrike">
                  <a:solidFill>
                    <a:srgbClr val="f3f3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600" spc="-1" strike="noStrike">
                  <a:solidFill>
                    <a:srgbClr val="f3f300"/>
                  </a:solidFill>
                  <a:latin typeface="Arial"/>
                  <a:ea typeface="돋움"/>
                </a:rPr>
                <a:t>  </a:t>
              </a:r>
              <a:r>
                <a:rPr b="0" lang="en-US" sz="1600" spc="-1" strike="noStrike">
                  <a:solidFill>
                    <a:srgbClr val="f3f300"/>
                  </a:solidFill>
                  <a:latin typeface="Arial"/>
                  <a:ea typeface="돋움"/>
                </a:rPr>
                <a:t>Link systems of banks, logistics and many other     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  <a:p>
              <a:pPr marL="189000" indent="-18900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3f300"/>
                  </a:solidFill>
                  <a:latin typeface="Arial"/>
                  <a:ea typeface="돋움"/>
                </a:rPr>
                <a:t>         </a:t>
              </a:r>
              <a:r>
                <a:rPr b="0" lang="en-US" sz="1600" spc="-1" strike="noStrike">
                  <a:solidFill>
                    <a:srgbClr val="f3f300"/>
                  </a:solidFill>
                  <a:latin typeface="Arial"/>
                  <a:ea typeface="돋움"/>
                </a:rPr>
                <a:t>related organizations  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>
              <a:off x="643320" y="2086920"/>
              <a:ext cx="97920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Phase3</a:t>
              </a:r>
              <a:endParaRPr b="1" lang="en-US" sz="2200" spc="-1" strike="noStrike">
                <a:solidFill>
                  <a:srgbClr val="ffffff"/>
                </a:solidFill>
                <a:latin typeface="굴림체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(</a:t>
              </a:r>
              <a:r>
                <a:rPr b="1" lang="en-US" sz="1000" spc="-1" strike="noStrike">
                  <a:solidFill>
                    <a:srgbClr val="fefb81"/>
                  </a:solidFill>
                  <a:latin typeface="Arial"/>
                  <a:ea typeface="HY견고딕"/>
                </a:rPr>
                <a:t>’07~  )</a:t>
              </a: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1850040" y="2286000"/>
              <a:ext cx="714960" cy="68580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336" h="864">
                  <a:moveTo>
                    <a:pt x="0" y="0"/>
                  </a:moveTo>
                  <a:lnTo>
                    <a:pt x="336" y="0"/>
                  </a:lnTo>
                  <a:lnTo>
                    <a:pt x="336" y="864"/>
                  </a:lnTo>
                </a:path>
              </a:pathLst>
            </a:custGeom>
            <a:noFill/>
            <a:ln w="9360">
              <a:solidFill>
                <a:srgbClr val="6094fd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sp>
        <p:nvSpPr>
          <p:cNvPr id="205" name="제목 1"/>
          <p:cNvSpPr/>
          <p:nvPr/>
        </p:nvSpPr>
        <p:spPr>
          <a:xfrm>
            <a:off x="1371600" y="142920"/>
            <a:ext cx="746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Establishment &amp; Dissemination of Paperless Trading System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63"/>
          <p:cNvSpPr/>
          <p:nvPr/>
        </p:nvSpPr>
        <p:spPr>
          <a:xfrm flipV="1">
            <a:off x="1049400" y="4257000"/>
            <a:ext cx="3162240" cy="266760"/>
          </a:xfrm>
          <a:custGeom>
            <a:avLst/>
            <a:gdLst>
              <a:gd name="textAreaLeft" fmla="*/ 0 w 3162240"/>
              <a:gd name="textAreaRight" fmla="*/ 3162600 w 3162240"/>
              <a:gd name="textAreaTop" fmla="*/ -360 h 266760"/>
              <a:gd name="textAreaBottom" fmla="*/ 266760 h 266760"/>
            </a:gdLst>
            <a:ahLst/>
            <a:rect l="textAreaLeft" t="textAreaTop" r="textAreaRight" b="textAreaBottom"/>
            <a:pathLst>
              <a:path w="1632" h="336">
                <a:moveTo>
                  <a:pt x="0" y="0"/>
                </a:moveTo>
                <a:lnTo>
                  <a:pt x="1536" y="0"/>
                </a:lnTo>
                <a:lnTo>
                  <a:pt x="1632" y="336"/>
                </a:lnTo>
              </a:path>
            </a:pathLst>
          </a:custGeom>
          <a:noFill/>
          <a:ln w="9360">
            <a:solidFill>
              <a:srgbClr val="6094fd"/>
            </a:solidFill>
            <a:round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07" name="Freeform 61"/>
          <p:cNvSpPr/>
          <p:nvPr/>
        </p:nvSpPr>
        <p:spPr>
          <a:xfrm flipH="1" flipV="1">
            <a:off x="4376880" y="5577840"/>
            <a:ext cx="3311280" cy="431640"/>
          </a:xfrm>
          <a:custGeom>
            <a:avLst/>
            <a:gdLst>
              <a:gd name="textAreaLeft" fmla="*/ 360 w 3311280"/>
              <a:gd name="textAreaRight" fmla="*/ 3312000 w 3311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1632" h="336">
                <a:moveTo>
                  <a:pt x="0" y="0"/>
                </a:moveTo>
                <a:lnTo>
                  <a:pt x="1536" y="0"/>
                </a:lnTo>
                <a:lnTo>
                  <a:pt x="1632" y="336"/>
                </a:lnTo>
              </a:path>
            </a:pathLst>
          </a:custGeom>
          <a:noFill/>
          <a:ln w="9360">
            <a:solidFill>
              <a:srgbClr val="6094fd"/>
            </a:solidFill>
            <a:round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08" name="Freeform 57"/>
          <p:cNvSpPr/>
          <p:nvPr/>
        </p:nvSpPr>
        <p:spPr>
          <a:xfrm flipH="1">
            <a:off x="5748480" y="3127320"/>
            <a:ext cx="2387520" cy="343080"/>
          </a:xfrm>
          <a:custGeom>
            <a:avLst/>
            <a:gdLst>
              <a:gd name="textAreaLeft" fmla="*/ 360 w 2387520"/>
              <a:gd name="textAreaRight" fmla="*/ 2388240 w 2387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632" h="336">
                <a:moveTo>
                  <a:pt x="0" y="0"/>
                </a:moveTo>
                <a:lnTo>
                  <a:pt x="1536" y="0"/>
                </a:lnTo>
                <a:lnTo>
                  <a:pt x="1632" y="336"/>
                </a:lnTo>
              </a:path>
            </a:pathLst>
          </a:custGeom>
          <a:noFill/>
          <a:ln w="9360">
            <a:solidFill>
              <a:srgbClr val="6094fd"/>
            </a:solidFill>
            <a:round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09" name="Freeform 55"/>
          <p:cNvSpPr/>
          <p:nvPr/>
        </p:nvSpPr>
        <p:spPr>
          <a:xfrm>
            <a:off x="2490840" y="3071880"/>
            <a:ext cx="2898720" cy="30456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632" h="336">
                <a:moveTo>
                  <a:pt x="0" y="0"/>
                </a:moveTo>
                <a:lnTo>
                  <a:pt x="1536" y="0"/>
                </a:lnTo>
                <a:lnTo>
                  <a:pt x="1632" y="336"/>
                </a:lnTo>
              </a:path>
            </a:pathLst>
          </a:custGeom>
          <a:noFill/>
          <a:ln w="9360">
            <a:solidFill>
              <a:srgbClr val="6094fd"/>
            </a:solidFill>
            <a:round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grpSp>
        <p:nvGrpSpPr>
          <p:cNvPr id="210" name="그룹 31"/>
          <p:cNvGrpSpPr/>
          <p:nvPr/>
        </p:nvGrpSpPr>
        <p:grpSpPr>
          <a:xfrm>
            <a:off x="2743200" y="2928960"/>
            <a:ext cx="3524400" cy="2770200"/>
            <a:chOff x="2743200" y="2928960"/>
            <a:chExt cx="3524400" cy="2770200"/>
          </a:xfrm>
        </p:grpSpPr>
        <p:grpSp>
          <p:nvGrpSpPr>
            <p:cNvPr id="211" name="Group 34"/>
            <p:cNvGrpSpPr/>
            <p:nvPr/>
          </p:nvGrpSpPr>
          <p:grpSpPr>
            <a:xfrm>
              <a:off x="3484080" y="4081680"/>
              <a:ext cx="2574000" cy="1497240"/>
              <a:chOff x="3484080" y="4081680"/>
              <a:chExt cx="2574000" cy="1497240"/>
            </a:xfrm>
          </p:grpSpPr>
          <p:sp>
            <p:nvSpPr>
              <p:cNvPr id="212" name="Line 35"/>
              <p:cNvSpPr/>
              <p:nvPr/>
            </p:nvSpPr>
            <p:spPr>
              <a:xfrm flipV="1">
                <a:off x="4748400" y="4711680"/>
                <a:ext cx="866520" cy="482760"/>
              </a:xfrm>
              <a:prstGeom prst="line">
                <a:avLst/>
              </a:prstGeom>
              <a:ln w="38160">
                <a:solidFill>
                  <a:srgbClr val="e8e8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4033080" y="4278600"/>
                <a:ext cx="1420560" cy="246240"/>
              </a:xfrm>
              <a:prstGeom prst="line">
                <a:avLst/>
              </a:prstGeom>
              <a:ln w="38160">
                <a:solidFill>
                  <a:srgbClr val="e8e8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14" name="Line 37"/>
              <p:cNvSpPr/>
              <p:nvPr/>
            </p:nvSpPr>
            <p:spPr>
              <a:xfrm>
                <a:off x="3881880" y="4406400"/>
                <a:ext cx="423000" cy="817560"/>
              </a:xfrm>
              <a:prstGeom prst="line">
                <a:avLst/>
              </a:prstGeom>
              <a:ln w="38160">
                <a:solidFill>
                  <a:srgbClr val="e8e8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15" name="Oval 38"/>
              <p:cNvSpPr/>
              <p:nvPr/>
            </p:nvSpPr>
            <p:spPr>
              <a:xfrm>
                <a:off x="5357880" y="4397040"/>
                <a:ext cx="700200" cy="39384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16" name="Oval 39"/>
              <p:cNvSpPr/>
              <p:nvPr/>
            </p:nvSpPr>
            <p:spPr>
              <a:xfrm>
                <a:off x="3484080" y="4081680"/>
                <a:ext cx="629640" cy="35424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17" name="Oval 40"/>
              <p:cNvSpPr/>
              <p:nvPr/>
            </p:nvSpPr>
            <p:spPr>
              <a:xfrm>
                <a:off x="4157280" y="5106240"/>
                <a:ext cx="691920" cy="47268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  <p:grpSp>
          <p:nvGrpSpPr>
            <p:cNvPr id="218" name="Group 41"/>
            <p:cNvGrpSpPr/>
            <p:nvPr/>
          </p:nvGrpSpPr>
          <p:grpSpPr>
            <a:xfrm>
              <a:off x="3683520" y="3295080"/>
              <a:ext cx="1861920" cy="1687320"/>
              <a:chOff x="3683520" y="3295080"/>
              <a:chExt cx="1861920" cy="1687320"/>
            </a:xfrm>
          </p:grpSpPr>
          <p:sp>
            <p:nvSpPr>
              <p:cNvPr id="219" name="Rectangle 42"/>
              <p:cNvSpPr/>
              <p:nvPr/>
            </p:nvSpPr>
            <p:spPr>
              <a:xfrm rot="1065000">
                <a:off x="3822840" y="3519720"/>
                <a:ext cx="1482480" cy="47520"/>
              </a:xfrm>
              <a:prstGeom prst="rect">
                <a:avLst/>
              </a:prstGeom>
              <a:gradFill rotWithShape="0">
                <a:gsLst>
                  <a:gs pos="0">
                    <a:srgbClr val="dee4f1"/>
                  </a:gs>
                  <a:gs pos="100000">
                    <a:srgbClr val="6c87c2"/>
                  </a:gs>
                </a:gsLst>
                <a:lin ang="43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20" name="Rectangle 43"/>
              <p:cNvSpPr/>
              <p:nvPr/>
            </p:nvSpPr>
            <p:spPr>
              <a:xfrm rot="19087800">
                <a:off x="4235760" y="4446000"/>
                <a:ext cx="1483200" cy="47520"/>
              </a:xfrm>
              <a:prstGeom prst="rect">
                <a:avLst/>
              </a:prstGeom>
              <a:gradFill rotWithShape="0">
                <a:gsLst>
                  <a:gs pos="0">
                    <a:srgbClr val="dee4f1"/>
                  </a:gs>
                  <a:gs pos="100000">
                    <a:srgbClr val="6c87c2"/>
                  </a:gs>
                </a:gsLst>
                <a:lin ang="79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21" name="Rectangle 44"/>
              <p:cNvSpPr/>
              <p:nvPr/>
            </p:nvSpPr>
            <p:spPr>
              <a:xfrm rot="15022800">
                <a:off x="3224520" y="4248000"/>
                <a:ext cx="1449720" cy="48600"/>
              </a:xfrm>
              <a:prstGeom prst="rect">
                <a:avLst/>
              </a:prstGeom>
              <a:gradFill rotWithShape="0">
                <a:gsLst>
                  <a:gs pos="0">
                    <a:srgbClr val="dee4f1"/>
                  </a:gs>
                  <a:gs pos="100000">
                    <a:srgbClr val="6c87c2"/>
                  </a:gs>
                </a:gsLst>
                <a:lin ang="11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  <p:pic>
          <p:nvPicPr>
            <p:cNvPr id="222" name="Picture 45" descr="원gray"/>
            <p:cNvPicPr/>
            <p:nvPr/>
          </p:nvPicPr>
          <p:blipFill>
            <a:blip r:embed="rId1"/>
            <a:stretch/>
          </p:blipFill>
          <p:spPr>
            <a:xfrm>
              <a:off x="3116160" y="2928960"/>
              <a:ext cx="96048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6" descr="원gray"/>
            <p:cNvPicPr/>
            <p:nvPr/>
          </p:nvPicPr>
          <p:blipFill>
            <a:blip r:embed="rId2"/>
            <a:stretch/>
          </p:blipFill>
          <p:spPr>
            <a:xfrm>
              <a:off x="5077800" y="3339360"/>
              <a:ext cx="1047960" cy="10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7" descr="원gray"/>
            <p:cNvPicPr/>
            <p:nvPr/>
          </p:nvPicPr>
          <p:blipFill>
            <a:blip r:embed="rId3"/>
            <a:stretch/>
          </p:blipFill>
          <p:spPr>
            <a:xfrm>
              <a:off x="3692160" y="4536720"/>
              <a:ext cx="1199160" cy="11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51"/>
            <p:cNvSpPr/>
            <p:nvPr/>
          </p:nvSpPr>
          <p:spPr>
            <a:xfrm>
              <a:off x="2743200" y="3178800"/>
              <a:ext cx="170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83b2"/>
                  </a:solidFill>
                  <a:latin typeface="Arial"/>
                  <a:ea typeface="HY헤드라인M"/>
                </a:rPr>
                <a:t>Government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4901400" y="3603960"/>
              <a:ext cx="1366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83b2"/>
                  </a:solidFill>
                  <a:latin typeface="Arial"/>
                  <a:ea typeface="HY헤드라인M"/>
                </a:rPr>
                <a:t>Related Parties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27" name="Text Box 53"/>
            <p:cNvSpPr/>
            <p:nvPr/>
          </p:nvSpPr>
          <p:spPr>
            <a:xfrm>
              <a:off x="3429720" y="4824720"/>
              <a:ext cx="1702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83b2"/>
                  </a:solidFill>
                  <a:latin typeface="Arial"/>
                  <a:ea typeface="HY헤드라인M"/>
                </a:rPr>
                <a:t>Trading Partner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3798360" y="3703320"/>
              <a:ext cx="1506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e83b2"/>
                  </a:solidFill>
                  <a:latin typeface="Arial"/>
                  <a:ea typeface="HY헤드라인M"/>
                </a:rPr>
                <a:t>Trusted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e83b2"/>
                  </a:solidFill>
                  <a:latin typeface="Arial"/>
                  <a:ea typeface="HY헤드라인M"/>
                </a:rPr>
                <a:t>Third Party</a:t>
              </a:r>
              <a:endParaRPr b="1" lang="en-US" sz="20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sp>
        <p:nvSpPr>
          <p:cNvPr id="229" name="Rectangle 56"/>
          <p:cNvSpPr/>
          <p:nvPr/>
        </p:nvSpPr>
        <p:spPr>
          <a:xfrm>
            <a:off x="647640" y="1785960"/>
            <a:ext cx="4129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olicy &amp; Law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Funding &amp; Execution Roadmap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ject Leadership &amp; Ownership 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30" name="Rectangle 58"/>
          <p:cNvSpPr/>
          <p:nvPr/>
        </p:nvSpPr>
        <p:spPr>
          <a:xfrm>
            <a:off x="5954760" y="2181240"/>
            <a:ext cx="2894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Integration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tandardization Body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cess Innovation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5262480" y="5245200"/>
            <a:ext cx="25066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aperless Trading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Enterprise IT Systems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32" name="Rectangle 64"/>
          <p:cNvSpPr/>
          <p:nvPr/>
        </p:nvSpPr>
        <p:spPr>
          <a:xfrm>
            <a:off x="428760" y="3489480"/>
            <a:ext cx="2698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ervice Development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latform Operation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  <a:p>
            <a:pPr marL="101520" indent="-101520" algn="ctr">
              <a:lnSpc>
                <a:spcPct val="100000"/>
              </a:lnSpc>
              <a:spcAft>
                <a:spcPts val="601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Global Network</a:t>
            </a:r>
            <a:endParaRPr b="1" lang="en-US" sz="16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33" name="제목 1"/>
          <p:cNvSpPr/>
          <p:nvPr/>
        </p:nvSpPr>
        <p:spPr>
          <a:xfrm>
            <a:off x="1371600" y="142920"/>
            <a:ext cx="746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Establishment &amp; Dissemination of Paperless Trading System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464040" y="1233720"/>
            <a:ext cx="47296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e83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Public – Private Partnership</a:t>
            </a:r>
            <a:endParaRPr b="1" lang="en-US" sz="2400" spc="-1" strike="noStrike">
              <a:solidFill>
                <a:srgbClr val="ffffff"/>
              </a:solidFill>
              <a:latin typeface="굴림체"/>
            </a:endParaRPr>
          </a:p>
        </p:txBody>
      </p:sp>
      <p:pic>
        <p:nvPicPr>
          <p:cNvPr id="235" name="Picture 4" descr="3"/>
          <p:cNvPicPr/>
          <p:nvPr/>
        </p:nvPicPr>
        <p:blipFill>
          <a:blip r:embed="rId4"/>
          <a:stretch/>
        </p:blipFill>
        <p:spPr>
          <a:xfrm>
            <a:off x="380880" y="1185840"/>
            <a:ext cx="355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83b2"/>
                </a:solidFill>
                <a:latin typeface="HY헤드라인M"/>
              </a:rPr>
              <a:t>Table of 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957240"/>
            <a:ext cx="7467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울릉도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</a:rPr>
              <a:t>Background of Paperless 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cept of Trade Facilit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PEC’s Trade Facilitation Ag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NCITRAL model law for Paperless T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</a:rPr>
              <a:t>Paperless Trade in Ko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13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eds for Paperless Trad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13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stablishment &amp; Dissemination of Paperless Trading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13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gal framework &amp; Expected benef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</a:rPr>
              <a:t>Future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5"/>
          <p:cNvGrpSpPr/>
          <p:nvPr/>
        </p:nvGrpSpPr>
        <p:grpSpPr>
          <a:xfrm>
            <a:off x="1426680" y="558360"/>
            <a:ext cx="6145200" cy="4267440"/>
            <a:chOff x="1426680" y="558360"/>
            <a:chExt cx="6145200" cy="4267440"/>
          </a:xfrm>
        </p:grpSpPr>
        <p:sp>
          <p:nvSpPr>
            <p:cNvPr id="237" name="Oval 6"/>
            <p:cNvSpPr/>
            <p:nvPr/>
          </p:nvSpPr>
          <p:spPr>
            <a:xfrm>
              <a:off x="2380680" y="3298320"/>
              <a:ext cx="5191200" cy="119556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2e83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 rot="20601600">
              <a:off x="1703520" y="1391760"/>
              <a:ext cx="5378400" cy="27208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sp>
          <p:nvSpPr>
            <p:cNvPr id="239" name="Oval 8"/>
            <p:cNvSpPr/>
            <p:nvPr/>
          </p:nvSpPr>
          <p:spPr>
            <a:xfrm rot="20601600">
              <a:off x="1755360" y="1246320"/>
              <a:ext cx="5192640" cy="26362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  <p:grpSp>
          <p:nvGrpSpPr>
            <p:cNvPr id="240" name="Group 9"/>
            <p:cNvGrpSpPr/>
            <p:nvPr/>
          </p:nvGrpSpPr>
          <p:grpSpPr>
            <a:xfrm>
              <a:off x="1494720" y="722160"/>
              <a:ext cx="6074280" cy="3598200"/>
              <a:chOff x="1494720" y="722160"/>
              <a:chExt cx="6074280" cy="3598200"/>
            </a:xfrm>
          </p:grpSpPr>
          <p:sp>
            <p:nvSpPr>
              <p:cNvPr id="241" name="Arc 10"/>
              <p:cNvSpPr/>
              <p:nvPr/>
            </p:nvSpPr>
            <p:spPr>
              <a:xfrm rot="20601600">
                <a:off x="4437000" y="2212200"/>
                <a:ext cx="2475720" cy="1197000"/>
              </a:xfrm>
              <a:custGeom>
                <a:avLst/>
                <a:gdLst>
                  <a:gd name="textAreaLeft" fmla="*/ 0 w 2475720"/>
                  <a:gd name="textAreaRight" fmla="*/ 2476080 w 2475720"/>
                  <a:gd name="textAreaTop" fmla="*/ 0 h 1197000"/>
                  <a:gd name="textAreaBottom" fmla="*/ 1197360 h 1197000"/>
                </a:gdLst>
                <a:ahLst/>
                <a:rect l="textAreaLeft" t="textAreaTop" r="textAreaRight" b="textAreaBottom"/>
                <a:pathLst>
                  <a:path fill="none" w="19933" h="19523">
                    <a:moveTo>
                      <a:pt x="19932" y="8320"/>
                    </a:moveTo>
                    <a:cubicBezTo>
                      <a:pt x="17876" y="13247"/>
                      <a:pt x="14067" y="17238"/>
                      <a:pt x="9241" y="19522"/>
                    </a:cubicBezTo>
                  </a:path>
                  <a:path stroke="0" w="19933" h="19523">
                    <a:moveTo>
                      <a:pt x="19932" y="8320"/>
                    </a:moveTo>
                    <a:cubicBezTo>
                      <a:pt x="17876" y="13247"/>
                      <a:pt x="14067" y="17238"/>
                      <a:pt x="9241" y="1952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a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42" name="Arc 11"/>
              <p:cNvSpPr/>
              <p:nvPr/>
            </p:nvSpPr>
            <p:spPr>
              <a:xfrm rot="20601600">
                <a:off x="4228200" y="1316160"/>
                <a:ext cx="2658960" cy="1387440"/>
              </a:xfrm>
              <a:custGeom>
                <a:avLst/>
                <a:gdLst>
                  <a:gd name="textAreaLeft" fmla="*/ 0 w 2658960"/>
                  <a:gd name="textAreaRight" fmla="*/ 2659320 w 2658960"/>
                  <a:gd name="textAreaTop" fmla="*/ 0 h 1387440"/>
                  <a:gd name="textAreaBottom" fmla="*/ 1387800 h 1387440"/>
                </a:gdLst>
                <a:ahLst/>
                <a:rect l="textAreaLeft" t="textAreaTop" r="textAreaRight" b="textAreaBottom"/>
                <a:pathLst>
                  <a:path fill="none" w="21600" h="22718">
                    <a:moveTo>
                      <a:pt x="16157" y="-1"/>
                    </a:moveTo>
                    <a:cubicBezTo>
                      <a:pt x="19663" y="3951"/>
                      <a:pt x="21600" y="9051"/>
                      <a:pt x="21600" y="14335"/>
                    </a:cubicBezTo>
                    <a:cubicBezTo>
                      <a:pt x="21600" y="17214"/>
                      <a:pt x="21024" y="20064"/>
                      <a:pt x="19906" y="22717"/>
                    </a:cubicBezTo>
                  </a:path>
                  <a:path stroke="0" w="21600" h="22718">
                    <a:moveTo>
                      <a:pt x="16157" y="-1"/>
                    </a:moveTo>
                    <a:cubicBezTo>
                      <a:pt x="19663" y="3951"/>
                      <a:pt x="21600" y="9051"/>
                      <a:pt x="21600" y="14335"/>
                    </a:cubicBezTo>
                    <a:cubicBezTo>
                      <a:pt x="21600" y="17214"/>
                      <a:pt x="21024" y="20064"/>
                      <a:pt x="19906" y="22717"/>
                    </a:cubicBezTo>
                    <a:lnTo>
                      <a:pt x="0" y="14335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43" name="Arc 12"/>
              <p:cNvSpPr/>
              <p:nvPr/>
            </p:nvSpPr>
            <p:spPr>
              <a:xfrm flipH="1" rot="20602200">
                <a:off x="1832040" y="2486160"/>
                <a:ext cx="2685960" cy="1480680"/>
              </a:xfrm>
              <a:custGeom>
                <a:avLst/>
                <a:gdLst>
                  <a:gd name="textAreaLeft" fmla="*/ -360 w 2685960"/>
                  <a:gd name="textAreaRight" fmla="*/ 2685960 w 2685960"/>
                  <a:gd name="textAreaTop" fmla="*/ 0 h 1480680"/>
                  <a:gd name="textAreaBottom" fmla="*/ 1481040 h 1480680"/>
                </a:gdLst>
                <a:ahLst/>
                <a:rect l="textAreaLeft" t="textAreaTop" r="textAreaRight" b="textAreaBottom"/>
                <a:pathLst>
                  <a:path fill="none" w="21600" h="24439">
                    <a:moveTo>
                      <a:pt x="20452" y="-1"/>
                    </a:moveTo>
                    <a:cubicBezTo>
                      <a:pt x="21212" y="2237"/>
                      <a:pt x="21600" y="4584"/>
                      <a:pt x="21600" y="6947"/>
                    </a:cubicBezTo>
                    <a:cubicBezTo>
                      <a:pt x="21600" y="13871"/>
                      <a:pt x="18280" y="20376"/>
                      <a:pt x="12672" y="24438"/>
                    </a:cubicBezTo>
                  </a:path>
                  <a:path stroke="0" w="21600" h="24439">
                    <a:moveTo>
                      <a:pt x="20452" y="-1"/>
                    </a:moveTo>
                    <a:cubicBezTo>
                      <a:pt x="21212" y="2237"/>
                      <a:pt x="21600" y="4584"/>
                      <a:pt x="21600" y="6947"/>
                    </a:cubicBezTo>
                    <a:cubicBezTo>
                      <a:pt x="21600" y="13871"/>
                      <a:pt x="18280" y="20376"/>
                      <a:pt x="12672" y="24438"/>
                    </a:cubicBezTo>
                    <a:lnTo>
                      <a:pt x="0" y="69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d9f2"/>
                  </a:gs>
                  <a:gs pos="100000">
                    <a:srgbClr val="47abe3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44" name="Arc 13"/>
              <p:cNvSpPr/>
              <p:nvPr/>
            </p:nvSpPr>
            <p:spPr>
              <a:xfrm rot="20601600">
                <a:off x="3521160" y="1071360"/>
                <a:ext cx="2626920" cy="1278720"/>
              </a:xfrm>
              <a:custGeom>
                <a:avLst/>
                <a:gdLst>
                  <a:gd name="textAreaLeft" fmla="*/ 0 w 2626920"/>
                  <a:gd name="textAreaRight" fmla="*/ 2626920 w 262692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fill="none" w="21397" h="21600">
                    <a:moveTo>
                      <a:pt x="0" y="549"/>
                    </a:moveTo>
                    <a:cubicBezTo>
                      <a:pt x="1587" y="184"/>
                      <a:pt x="3210" y="-1"/>
                      <a:pt x="4839" y="0"/>
                    </a:cubicBezTo>
                    <a:cubicBezTo>
                      <a:pt x="11230" y="0"/>
                      <a:pt x="17293" y="2830"/>
                      <a:pt x="21397" y="7729"/>
                    </a:cubicBezTo>
                  </a:path>
                  <a:path stroke="0" w="21397" h="21600">
                    <a:moveTo>
                      <a:pt x="0" y="549"/>
                    </a:moveTo>
                    <a:cubicBezTo>
                      <a:pt x="1587" y="184"/>
                      <a:pt x="3210" y="-1"/>
                      <a:pt x="4839" y="0"/>
                    </a:cubicBezTo>
                    <a:cubicBezTo>
                      <a:pt x="11230" y="0"/>
                      <a:pt x="17293" y="2830"/>
                      <a:pt x="21397" y="7729"/>
                    </a:cubicBezTo>
                    <a:lnTo>
                      <a:pt x="483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4a73"/>
                  </a:gs>
                  <a:gs pos="100000">
                    <a:srgbClr val="aaa0f8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45" name="Arc 14"/>
              <p:cNvSpPr/>
              <p:nvPr/>
            </p:nvSpPr>
            <p:spPr>
              <a:xfrm flipH="1" rot="20602200">
                <a:off x="1618560" y="1659960"/>
                <a:ext cx="2577600" cy="1245960"/>
              </a:xfrm>
              <a:custGeom>
                <a:avLst/>
                <a:gdLst>
                  <a:gd name="textAreaLeft" fmla="*/ 360 w 2577600"/>
                  <a:gd name="textAreaRight" fmla="*/ 2578320 w 2577600"/>
                  <a:gd name="textAreaTop" fmla="*/ 0 h 1245960"/>
                  <a:gd name="textAreaBottom" fmla="*/ 1246320 h 1245960"/>
                </a:gdLst>
                <a:ahLst/>
                <a:rect l="textAreaLeft" t="textAreaTop" r="textAreaRight" b="textAreaBottom"/>
                <a:pathLst>
                  <a:path fill="none" w="20934" h="21142">
                    <a:moveTo>
                      <a:pt x="4423" y="-1"/>
                    </a:moveTo>
                    <a:cubicBezTo>
                      <a:pt x="12495" y="1688"/>
                      <a:pt x="18902" y="7826"/>
                      <a:pt x="20934" y="15819"/>
                    </a:cubicBezTo>
                  </a:path>
                  <a:path stroke="0" w="20934" h="21142">
                    <a:moveTo>
                      <a:pt x="4423" y="-1"/>
                    </a:moveTo>
                    <a:cubicBezTo>
                      <a:pt x="12495" y="1688"/>
                      <a:pt x="18902" y="7826"/>
                      <a:pt x="20934" y="15819"/>
                    </a:cubicBezTo>
                    <a:lnTo>
                      <a:pt x="0" y="21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abe3"/>
                  </a:gs>
                  <a:gs pos="100000">
                    <a:srgbClr val="214f69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 rot="20601600">
                <a:off x="4545000" y="2437560"/>
                <a:ext cx="1139040" cy="1351440"/>
              </a:xfrm>
              <a:custGeom>
                <a:avLst/>
                <a:gdLst>
                  <a:gd name="textAreaLeft" fmla="*/ 0 w 1139040"/>
                  <a:gd name="textAreaRight" fmla="*/ 1139400 w 1139040"/>
                  <a:gd name="textAreaTop" fmla="*/ 0 h 1351440"/>
                  <a:gd name="textAreaBottom" fmla="*/ 1351800 h 1351440"/>
                </a:gdLst>
                <a:ahLst/>
                <a:rect l="textAreaLeft" t="textAreaTop" r="textAreaRight" b="textAreaBottom"/>
                <a:pathLst>
                  <a:path w="480" h="716">
                    <a:moveTo>
                      <a:pt x="480" y="716"/>
                    </a:moveTo>
                    <a:lnTo>
                      <a:pt x="480" y="604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a93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 rot="20601600">
                <a:off x="4446000" y="2209680"/>
                <a:ext cx="2391120" cy="731880"/>
              </a:xfrm>
              <a:custGeom>
                <a:avLst/>
                <a:gdLst>
                  <a:gd name="textAreaLeft" fmla="*/ 0 w 2391120"/>
                  <a:gd name="textAreaRight" fmla="*/ 2391480 w 23911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008" h="388">
                    <a:moveTo>
                      <a:pt x="1008" y="388"/>
                    </a:moveTo>
                    <a:lnTo>
                      <a:pt x="1000" y="284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grpSp>
            <p:nvGrpSpPr>
              <p:cNvPr id="248" name="Group 17"/>
              <p:cNvGrpSpPr/>
              <p:nvPr/>
            </p:nvGrpSpPr>
            <p:grpSpPr>
              <a:xfrm>
                <a:off x="4066920" y="1904400"/>
                <a:ext cx="3025440" cy="2031840"/>
                <a:chOff x="4066920" y="1904400"/>
                <a:chExt cx="3025440" cy="2031840"/>
              </a:xfrm>
            </p:grpSpPr>
            <p:sp>
              <p:nvSpPr>
                <p:cNvPr id="249" name="Arc 18"/>
                <p:cNvSpPr/>
                <p:nvPr/>
              </p:nvSpPr>
              <p:spPr>
                <a:xfrm rot="20712600">
                  <a:off x="4167360" y="2238120"/>
                  <a:ext cx="2763720" cy="1146600"/>
                </a:xfrm>
                <a:custGeom>
                  <a:avLst/>
                  <a:gdLst>
                    <a:gd name="textAreaLeft" fmla="*/ 0 w 2763720"/>
                    <a:gd name="textAreaRight" fmla="*/ 2764080 w 2763720"/>
                    <a:gd name="textAreaTop" fmla="*/ 0 h 1146600"/>
                    <a:gd name="textAreaBottom" fmla="*/ 1146960 h 1146600"/>
                  </a:gdLst>
                  <a:ahLst/>
                  <a:rect l="textAreaLeft" t="textAreaTop" r="textAreaRight" b="textAreaBottom"/>
                  <a:pathLst>
                    <a:path fill="none" w="19866" h="19523">
                      <a:moveTo>
                        <a:pt x="19866" y="8479"/>
                      </a:moveTo>
                      <a:cubicBezTo>
                        <a:pt x="17793" y="13335"/>
                        <a:pt x="14014" y="17263"/>
                        <a:pt x="9241" y="19522"/>
                      </a:cubicBezTo>
                    </a:path>
                    <a:path stroke="0" w="19866" h="19523">
                      <a:moveTo>
                        <a:pt x="19866" y="8479"/>
                      </a:moveTo>
                      <a:cubicBezTo>
                        <a:pt x="17793" y="13335"/>
                        <a:pt x="14014" y="17263"/>
                        <a:pt x="9241" y="19522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529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000" spc="-1" strike="noStrike">
                    <a:solidFill>
                      <a:srgbClr val="ffffff"/>
                    </a:solidFill>
                    <a:latin typeface="굴림체"/>
                  </a:endParaRPr>
                </a:p>
              </p:txBody>
            </p:sp>
            <p:sp>
              <p:nvSpPr>
                <p:cNvPr id="250" name="Freeform 19"/>
                <p:cNvSpPr/>
                <p:nvPr/>
              </p:nvSpPr>
              <p:spPr>
                <a:xfrm rot="20712600">
                  <a:off x="4244040" y="2405880"/>
                  <a:ext cx="1291320" cy="1388520"/>
                </a:xfrm>
                <a:custGeom>
                  <a:avLst/>
                  <a:gdLst>
                    <a:gd name="textAreaLeft" fmla="*/ 0 w 1291320"/>
                    <a:gd name="textAreaRight" fmla="*/ 1291680 w 1291320"/>
                    <a:gd name="textAreaTop" fmla="*/ 0 h 1388520"/>
                    <a:gd name="textAreaBottom" fmla="*/ 1388880 h 1388520"/>
                  </a:gdLst>
                  <a:ahLst/>
                  <a:rect l="textAreaLeft" t="textAreaTop" r="textAreaRight" b="textAreaBottom"/>
                  <a:pathLst>
                    <a:path w="486" h="762">
                      <a:moveTo>
                        <a:pt x="480" y="633"/>
                      </a:moveTo>
                      <a:lnTo>
                        <a:pt x="486" y="762"/>
                      </a:lnTo>
                      <a:lnTo>
                        <a:pt x="9" y="129"/>
                      </a:lnTo>
                      <a:lnTo>
                        <a:pt x="0" y="0"/>
                      </a:lnTo>
                      <a:lnTo>
                        <a:pt x="480" y="6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198"/>
                    </a:gs>
                    <a:gs pos="100000">
                      <a:srgbClr val="352973"/>
                    </a:gs>
                  </a:gsLst>
                  <a:lin ang="35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000" spc="-1" strike="noStrike">
                    <a:solidFill>
                      <a:srgbClr val="ffffff"/>
                    </a:solidFill>
                    <a:latin typeface="굴림체"/>
                  </a:endParaRPr>
                </a:p>
              </p:txBody>
            </p:sp>
            <p:sp>
              <p:nvSpPr>
                <p:cNvPr id="251" name="Freeform 20"/>
                <p:cNvSpPr/>
                <p:nvPr/>
              </p:nvSpPr>
              <p:spPr>
                <a:xfrm rot="20712600">
                  <a:off x="5535720" y="2560320"/>
                  <a:ext cx="1468080" cy="882720"/>
                </a:xfrm>
                <a:custGeom>
                  <a:avLst/>
                  <a:gdLst>
                    <a:gd name="textAreaLeft" fmla="*/ 0 w 1468080"/>
                    <a:gd name="textAreaRight" fmla="*/ 1468440 w 1468080"/>
                    <a:gd name="textAreaTop" fmla="*/ 0 h 882720"/>
                    <a:gd name="textAreaBottom" fmla="*/ 883080 h 882720"/>
                  </a:gdLst>
                  <a:ahLst/>
                  <a:rect l="textAreaLeft" t="textAreaTop" r="textAreaRight" b="textAreaBottom"/>
                  <a:pathLst>
                    <a:path w="556" h="486">
                      <a:moveTo>
                        <a:pt x="0" y="342"/>
                      </a:moveTo>
                      <a:lnTo>
                        <a:pt x="552" y="0"/>
                      </a:lnTo>
                      <a:lnTo>
                        <a:pt x="556" y="138"/>
                      </a:lnTo>
                      <a:cubicBezTo>
                        <a:pt x="522" y="194"/>
                        <a:pt x="438" y="280"/>
                        <a:pt x="346" y="338"/>
                      </a:cubicBezTo>
                      <a:cubicBezTo>
                        <a:pt x="254" y="396"/>
                        <a:pt x="64" y="485"/>
                        <a:pt x="6" y="486"/>
                      </a:cubicBezTo>
                      <a:cubicBezTo>
                        <a:pt x="8" y="434"/>
                        <a:pt x="1" y="372"/>
                        <a:pt x="0" y="342"/>
                      </a:cubicBezTo>
                      <a:close/>
                    </a:path>
                  </a:pathLst>
                </a:custGeom>
                <a:solidFill>
                  <a:srgbClr val="3529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000" spc="-1" strike="noStrike">
                    <a:solidFill>
                      <a:srgbClr val="ffffff"/>
                    </a:solidFill>
                    <a:latin typeface="굴림체"/>
                  </a:endParaRPr>
                </a:p>
              </p:txBody>
            </p:sp>
          </p:grpSp>
          <p:grpSp>
            <p:nvGrpSpPr>
              <p:cNvPr id="252" name="Group 21"/>
              <p:cNvGrpSpPr/>
              <p:nvPr/>
            </p:nvGrpSpPr>
            <p:grpSpPr>
              <a:xfrm>
                <a:off x="4528800" y="1747440"/>
                <a:ext cx="3040200" cy="2241720"/>
                <a:chOff x="4528800" y="1747440"/>
                <a:chExt cx="3040200" cy="224172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 rot="20601600">
                  <a:off x="6006960" y="2474280"/>
                  <a:ext cx="1451520" cy="983520"/>
                </a:xfrm>
                <a:custGeom>
                  <a:avLst/>
                  <a:gdLst>
                    <a:gd name="textAreaLeft" fmla="*/ 0 w 1451520"/>
                    <a:gd name="textAreaRight" fmla="*/ 1451880 w 1451520"/>
                    <a:gd name="textAreaTop" fmla="*/ 0 h 983520"/>
                    <a:gd name="textAreaBottom" fmla="*/ 983880 h 983520"/>
                  </a:gdLst>
                  <a:ahLst/>
                  <a:rect l="textAreaLeft" t="textAreaTop" r="textAreaRight" b="textAreaBottom"/>
                  <a:pathLst>
                    <a:path w="556" h="486">
                      <a:moveTo>
                        <a:pt x="0" y="342"/>
                      </a:moveTo>
                      <a:lnTo>
                        <a:pt x="552" y="0"/>
                      </a:lnTo>
                      <a:lnTo>
                        <a:pt x="556" y="138"/>
                      </a:lnTo>
                      <a:cubicBezTo>
                        <a:pt x="522" y="194"/>
                        <a:pt x="438" y="280"/>
                        <a:pt x="346" y="338"/>
                      </a:cubicBezTo>
                      <a:cubicBezTo>
                        <a:pt x="254" y="396"/>
                        <a:pt x="64" y="485"/>
                        <a:pt x="6" y="486"/>
                      </a:cubicBezTo>
                      <a:cubicBezTo>
                        <a:pt x="8" y="434"/>
                        <a:pt x="1" y="372"/>
                        <a:pt x="0" y="3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8be8"/>
                    </a:gs>
                    <a:gs pos="100000">
                      <a:srgbClr val="6600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" spc="-1" strike="noStrike">
                    <a:solidFill>
                      <a:srgbClr val="ffffff"/>
                    </a:solidFill>
                    <a:latin typeface="굴림체"/>
                  </a:endParaRPr>
                </a:p>
              </p:txBody>
            </p:sp>
            <p:sp>
              <p:nvSpPr>
                <p:cNvPr id="254" name="Arc 23"/>
                <p:cNvSpPr/>
                <p:nvPr/>
              </p:nvSpPr>
              <p:spPr>
                <a:xfrm rot="20539200">
                  <a:off x="4655880" y="2129040"/>
                  <a:ext cx="2711160" cy="1260000"/>
                </a:xfrm>
                <a:custGeom>
                  <a:avLst/>
                  <a:gdLst>
                    <a:gd name="textAreaLeft" fmla="*/ 0 w 2711160"/>
                    <a:gd name="textAreaRight" fmla="*/ 2711520 w 2711160"/>
                    <a:gd name="textAreaTop" fmla="*/ 0 h 1260000"/>
                    <a:gd name="textAreaBottom" fmla="*/ 1260360 h 1260000"/>
                  </a:gdLst>
                  <a:ahLst/>
                  <a:rect l="textAreaLeft" t="textAreaTop" r="textAreaRight" b="textAreaBottom"/>
                  <a:pathLst>
                    <a:path fill="none" w="19866" h="19523">
                      <a:moveTo>
                        <a:pt x="19866" y="8479"/>
                      </a:moveTo>
                      <a:cubicBezTo>
                        <a:pt x="17793" y="13335"/>
                        <a:pt x="14014" y="17263"/>
                        <a:pt x="9241" y="19522"/>
                      </a:cubicBezTo>
                    </a:path>
                    <a:path stroke="0" w="19866" h="19523">
                      <a:moveTo>
                        <a:pt x="19866" y="8479"/>
                      </a:moveTo>
                      <a:cubicBezTo>
                        <a:pt x="17793" y="13335"/>
                        <a:pt x="14014" y="17263"/>
                        <a:pt x="9241" y="19522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000" spc="-1" strike="noStrike">
                    <a:solidFill>
                      <a:srgbClr val="ffffff"/>
                    </a:solidFill>
                    <a:latin typeface="굴림체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 rot="20601600">
                  <a:off x="4777560" y="2319480"/>
                  <a:ext cx="1244160" cy="1523160"/>
                </a:xfrm>
                <a:custGeom>
                  <a:avLst/>
                  <a:gdLst>
                    <a:gd name="textAreaLeft" fmla="*/ 0 w 1244160"/>
                    <a:gd name="textAreaRight" fmla="*/ 1244520 w 1244160"/>
                    <a:gd name="textAreaTop" fmla="*/ 0 h 1523160"/>
                    <a:gd name="textAreaBottom" fmla="*/ 1523520 h 1523160"/>
                  </a:gdLst>
                  <a:ahLst/>
                  <a:rect l="textAreaLeft" t="textAreaTop" r="textAreaRight" b="textAreaBottom"/>
                  <a:pathLst>
                    <a:path w="486" h="762">
                      <a:moveTo>
                        <a:pt x="480" y="633"/>
                      </a:moveTo>
                      <a:lnTo>
                        <a:pt x="486" y="762"/>
                      </a:lnTo>
                      <a:lnTo>
                        <a:pt x="9" y="129"/>
                      </a:lnTo>
                      <a:lnTo>
                        <a:pt x="0" y="0"/>
                      </a:lnTo>
                      <a:lnTo>
                        <a:pt x="480" y="6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007a1"/>
                    </a:gs>
                    <a:gs pos="100000">
                      <a:srgbClr val="af8ed4"/>
                    </a:gs>
                  </a:gsLst>
                  <a:lin ang="36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" spc="-1" strike="noStrike">
                    <a:solidFill>
                      <a:srgbClr val="ffffff"/>
                    </a:solidFill>
                    <a:latin typeface="굴림체"/>
                  </a:endParaRPr>
                </a:p>
              </p:txBody>
            </p:sp>
          </p:grpSp>
          <p:sp>
            <p:nvSpPr>
              <p:cNvPr id="256" name="Oval 25"/>
              <p:cNvSpPr/>
              <p:nvPr/>
            </p:nvSpPr>
            <p:spPr>
              <a:xfrm rot="20601600">
                <a:off x="3119760" y="1890360"/>
                <a:ext cx="2515680" cy="1211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c1c1c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57" name="Oval 26"/>
              <p:cNvSpPr/>
              <p:nvPr/>
            </p:nvSpPr>
            <p:spPr>
              <a:xfrm rot="20601600">
                <a:off x="3191040" y="2105280"/>
                <a:ext cx="2448720" cy="996840"/>
              </a:xfrm>
              <a:prstGeom prst="ellipse">
                <a:avLst/>
              </a:prstGeom>
              <a:solidFill>
                <a:srgbClr val="2e8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58" name="Text Box 27"/>
              <p:cNvSpPr/>
              <p:nvPr/>
            </p:nvSpPr>
            <p:spPr>
              <a:xfrm>
                <a:off x="4179240" y="1327680"/>
                <a:ext cx="17172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59" name="Text Box 28"/>
              <p:cNvSpPr/>
              <p:nvPr/>
            </p:nvSpPr>
            <p:spPr>
              <a:xfrm>
                <a:off x="2259000" y="2033640"/>
                <a:ext cx="184608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Digital Signatur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ct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60" name="Text Box 29"/>
              <p:cNvSpPr/>
              <p:nvPr/>
            </p:nvSpPr>
            <p:spPr>
              <a:xfrm>
                <a:off x="2115360" y="2955960"/>
                <a:ext cx="1260720" cy="83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rade 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utomation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ct (1991)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61" name="Text Box 30"/>
              <p:cNvSpPr/>
              <p:nvPr/>
            </p:nvSpPr>
            <p:spPr>
              <a:xfrm>
                <a:off x="3643200" y="3213720"/>
                <a:ext cx="1571400" cy="83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-Trade 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Facilitation Act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(2005)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62" name="Text Box 31"/>
              <p:cNvSpPr/>
              <p:nvPr/>
            </p:nvSpPr>
            <p:spPr>
              <a:xfrm>
                <a:off x="5388120" y="2514960"/>
                <a:ext cx="132156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mmercial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Law (2007)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63" name="Text Box 32"/>
              <p:cNvSpPr/>
              <p:nvPr/>
            </p:nvSpPr>
            <p:spPr>
              <a:xfrm>
                <a:off x="3681360" y="1329120"/>
                <a:ext cx="19260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Foreign Trade Act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64" name="Text Box 33"/>
              <p:cNvSpPr/>
              <p:nvPr/>
            </p:nvSpPr>
            <p:spPr>
              <a:xfrm>
                <a:off x="5530680" y="1483920"/>
                <a:ext cx="1494720" cy="82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lectronic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ransactions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ct 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</p:grpSp>
      <p:pic>
        <p:nvPicPr>
          <p:cNvPr id="265" name="TextBox 36" descr=""/>
          <p:cNvPicPr/>
          <p:nvPr/>
        </p:nvPicPr>
        <p:blipFill>
          <a:blip r:embed="rId1"/>
          <a:stretch/>
        </p:blipFill>
        <p:spPr>
          <a:xfrm>
            <a:off x="658800" y="4511520"/>
            <a:ext cx="7699320" cy="2565720"/>
          </a:xfrm>
          <a:prstGeom prst="rect">
            <a:avLst/>
          </a:prstGeom>
          <a:ln w="0">
            <a:noFill/>
          </a:ln>
        </p:spPr>
      </p:pic>
      <p:sp>
        <p:nvSpPr>
          <p:cNvPr id="266" name="제목 1"/>
          <p:cNvSpPr/>
          <p:nvPr/>
        </p:nvSpPr>
        <p:spPr>
          <a:xfrm>
            <a:off x="137160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Legal framework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제목 1"/>
          <p:cNvSpPr/>
          <p:nvPr/>
        </p:nvSpPr>
        <p:spPr>
          <a:xfrm>
            <a:off x="137160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Legal framework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68" name="내용 개체 틀 2"/>
          <p:cNvSpPr/>
          <p:nvPr/>
        </p:nvSpPr>
        <p:spPr>
          <a:xfrm>
            <a:off x="395280" y="1197000"/>
            <a:ext cx="82598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eign trade Act(1986)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revised in 2009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e-Trade Facilitation Act(1991)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- revised in 2009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Digital Signature Act(1999)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revised in 2008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Electronic Transactions Act(1999)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- revised in 2009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Commercial Law on  electronic Bill of Lading(2008)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343080" indent="-16848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6" descr="화살표-1"/>
          <p:cNvPicPr/>
          <p:nvPr/>
        </p:nvPicPr>
        <p:blipFill>
          <a:blip r:embed="rId1"/>
          <a:stretch/>
        </p:blipFill>
        <p:spPr>
          <a:xfrm>
            <a:off x="522360" y="1930320"/>
            <a:ext cx="80503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270" name="타원 15"/>
          <p:cNvGrpSpPr/>
          <p:nvPr/>
        </p:nvGrpSpPr>
        <p:grpSpPr>
          <a:xfrm>
            <a:off x="2419200" y="1200240"/>
            <a:ext cx="3975120" cy="1371600"/>
            <a:chOff x="2419200" y="1200240"/>
            <a:chExt cx="3975120" cy="1371600"/>
          </a:xfrm>
        </p:grpSpPr>
        <p:pic>
          <p:nvPicPr>
            <p:cNvPr id="271" name="타원 15" descr=""/>
            <p:cNvPicPr/>
            <p:nvPr/>
          </p:nvPicPr>
          <p:blipFill>
            <a:blip r:embed="rId2"/>
            <a:stretch/>
          </p:blipFill>
          <p:spPr>
            <a:xfrm>
              <a:off x="2419200" y="1200240"/>
              <a:ext cx="397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048120" y="1419120"/>
              <a:ext cx="272736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산돌고딕B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pic>
        <p:nvPicPr>
          <p:cNvPr id="273" name="WordArt 311" descr=""/>
          <p:cNvPicPr/>
          <p:nvPr/>
        </p:nvPicPr>
        <p:blipFill>
          <a:blip r:embed="rId3"/>
          <a:stretch/>
        </p:blipFill>
        <p:spPr>
          <a:xfrm>
            <a:off x="2846520" y="1371600"/>
            <a:ext cx="3182760" cy="878040"/>
          </a:xfrm>
          <a:prstGeom prst="rect">
            <a:avLst/>
          </a:prstGeom>
          <a:ln w="0">
            <a:noFill/>
          </a:ln>
        </p:spPr>
      </p:pic>
      <p:grpSp>
        <p:nvGrpSpPr>
          <p:cNvPr id="274" name="그룹 30"/>
          <p:cNvGrpSpPr/>
          <p:nvPr/>
        </p:nvGrpSpPr>
        <p:grpSpPr>
          <a:xfrm>
            <a:off x="500040" y="4086360"/>
            <a:ext cx="8143920" cy="2414520"/>
            <a:chOff x="500040" y="4086360"/>
            <a:chExt cx="8143920" cy="2414520"/>
          </a:xfrm>
        </p:grpSpPr>
        <p:grpSp>
          <p:nvGrpSpPr>
            <p:cNvPr id="275" name="직사각형 19"/>
            <p:cNvGrpSpPr/>
            <p:nvPr/>
          </p:nvGrpSpPr>
          <p:grpSpPr>
            <a:xfrm>
              <a:off x="500040" y="4086360"/>
              <a:ext cx="1995480" cy="968040"/>
              <a:chOff x="500040" y="4086360"/>
              <a:chExt cx="1995480" cy="968040"/>
            </a:xfrm>
          </p:grpSpPr>
          <p:pic>
            <p:nvPicPr>
              <p:cNvPr id="276" name="직사각형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00040" y="4086360"/>
                <a:ext cx="1995480" cy="96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60160" y="4123080"/>
                <a:ext cx="1880280" cy="85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Productivity 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Increase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  <p:grpSp>
          <p:nvGrpSpPr>
            <p:cNvPr id="278" name="직사각형 20"/>
            <p:cNvGrpSpPr/>
            <p:nvPr/>
          </p:nvGrpSpPr>
          <p:grpSpPr>
            <a:xfrm>
              <a:off x="500040" y="5060160"/>
              <a:ext cx="1995480" cy="804960"/>
              <a:chOff x="500040" y="5060160"/>
              <a:chExt cx="1995480" cy="804960"/>
            </a:xfrm>
          </p:grpSpPr>
          <p:pic>
            <p:nvPicPr>
              <p:cNvPr id="279" name="직사각형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040" y="5060160"/>
                <a:ext cx="199548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60160" y="5097240"/>
                <a:ext cx="188028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Reduction of 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extra fees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  <p:grpSp>
          <p:nvGrpSpPr>
            <p:cNvPr id="281" name="직사각형 21"/>
            <p:cNvGrpSpPr/>
            <p:nvPr/>
          </p:nvGrpSpPr>
          <p:grpSpPr>
            <a:xfrm>
              <a:off x="500040" y="5900400"/>
              <a:ext cx="8143920" cy="600480"/>
              <a:chOff x="500040" y="5900400"/>
              <a:chExt cx="8143920" cy="600480"/>
            </a:xfrm>
          </p:grpSpPr>
          <p:pic>
            <p:nvPicPr>
              <p:cNvPr id="282" name="직사각형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500040" y="5900400"/>
                <a:ext cx="8143920" cy="6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560160" y="5935680"/>
                <a:ext cx="8029440" cy="49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HY울릉도M"/>
                  </a:rPr>
                  <a:t>Reduction of redundant investment in the IT sector (318million USD) 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  <p:grpSp>
          <p:nvGrpSpPr>
            <p:cNvPr id="284" name="그룹 41"/>
            <p:cNvGrpSpPr/>
            <p:nvPr/>
          </p:nvGrpSpPr>
          <p:grpSpPr>
            <a:xfrm>
              <a:off x="2533320" y="4123080"/>
              <a:ext cx="6056280" cy="828720"/>
              <a:chOff x="2533320" y="4123080"/>
              <a:chExt cx="6056280" cy="828720"/>
            </a:xfrm>
          </p:grpSpPr>
          <p:sp>
            <p:nvSpPr>
              <p:cNvPr id="285" name="직사각형 26"/>
              <p:cNvSpPr/>
              <p:nvPr/>
            </p:nvSpPr>
            <p:spPr>
              <a:xfrm>
                <a:off x="2533320" y="4123080"/>
                <a:ext cx="6056280" cy="247320"/>
              </a:xfrm>
              <a:prstGeom prst="rect">
                <a:avLst/>
              </a:prstGeom>
              <a:gradFill rotWithShape="0">
                <a:gsLst>
                  <a:gs pos="0">
                    <a:srgbClr val="8eb7ff"/>
                  </a:gs>
                  <a:gs pos="100000">
                    <a:srgbClr val="dde9ff"/>
                  </a:gs>
                </a:gsLst>
                <a:lin ang="16200000"/>
              </a:gradFill>
              <a:ln w="9360">
                <a:solidFill>
                  <a:srgbClr val="6094f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Reduction of labor costs (263.3million USD)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86" name="직사각형 27"/>
              <p:cNvSpPr/>
              <p:nvPr/>
            </p:nvSpPr>
            <p:spPr>
              <a:xfrm>
                <a:off x="2533320" y="4440240"/>
                <a:ext cx="6056280" cy="219960"/>
              </a:xfrm>
              <a:prstGeom prst="rect">
                <a:avLst/>
              </a:prstGeom>
              <a:gradFill rotWithShape="0">
                <a:gsLst>
                  <a:gs pos="0">
                    <a:srgbClr val="8eb7ff"/>
                  </a:gs>
                  <a:gs pos="100000">
                    <a:srgbClr val="dde9ff"/>
                  </a:gs>
                </a:gsLst>
                <a:lin ang="16200000"/>
              </a:gradFill>
              <a:ln w="9360">
                <a:solidFill>
                  <a:srgbClr val="6094f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Reduction of printing costs (19.1million  USD) 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87" name="직사각형 28"/>
              <p:cNvSpPr/>
              <p:nvPr/>
            </p:nvSpPr>
            <p:spPr>
              <a:xfrm>
                <a:off x="2533320" y="4712040"/>
                <a:ext cx="6056280" cy="239760"/>
              </a:xfrm>
              <a:prstGeom prst="rect">
                <a:avLst/>
              </a:prstGeom>
              <a:gradFill rotWithShape="0">
                <a:gsLst>
                  <a:gs pos="0">
                    <a:srgbClr val="8eb7ff"/>
                  </a:gs>
                  <a:gs pos="100000">
                    <a:srgbClr val="dde9ff"/>
                  </a:gs>
                </a:gsLst>
                <a:lin ang="16200000"/>
              </a:gradFill>
              <a:ln w="9360">
                <a:solidFill>
                  <a:srgbClr val="6094f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Reduction of circulation and storage costs(271.9million  USD)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  <p:grpSp>
          <p:nvGrpSpPr>
            <p:cNvPr id="288" name="그룹 42"/>
            <p:cNvGrpSpPr/>
            <p:nvPr/>
          </p:nvGrpSpPr>
          <p:grpSpPr>
            <a:xfrm>
              <a:off x="2533320" y="5133960"/>
              <a:ext cx="6056280" cy="618480"/>
              <a:chOff x="2533320" y="5133960"/>
              <a:chExt cx="6056280" cy="618480"/>
            </a:xfrm>
          </p:grpSpPr>
          <p:sp>
            <p:nvSpPr>
              <p:cNvPr id="289" name="직사각형 24"/>
              <p:cNvSpPr/>
              <p:nvPr/>
            </p:nvSpPr>
            <p:spPr>
              <a:xfrm>
                <a:off x="2533320" y="5133960"/>
                <a:ext cx="6056280" cy="291600"/>
              </a:xfrm>
              <a:prstGeom prst="rect">
                <a:avLst/>
              </a:prstGeom>
              <a:solidFill>
                <a:srgbClr val="236286"/>
              </a:solidFill>
              <a:ln w="9360">
                <a:solidFill>
                  <a:srgbClr val="28b8b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Reduction of warehousing costs (1.36billion USD)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  <p:sp>
            <p:nvSpPr>
              <p:cNvPr id="290" name="직사각형 25"/>
              <p:cNvSpPr/>
              <p:nvPr/>
            </p:nvSpPr>
            <p:spPr>
              <a:xfrm>
                <a:off x="2533320" y="5478840"/>
                <a:ext cx="6056280" cy="273600"/>
              </a:xfrm>
              <a:prstGeom prst="rect">
                <a:avLst/>
              </a:prstGeom>
              <a:solidFill>
                <a:srgbClr val="236286"/>
              </a:solidFill>
              <a:ln w="9360">
                <a:solidFill>
                  <a:srgbClr val="28b8b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굴림"/>
                  </a:rPr>
                  <a:t>Reduction of inventory management costs (750million USD)</a:t>
                </a:r>
                <a:endParaRPr b="1" lang="en-US" sz="1600" spc="-1" strike="noStrike">
                  <a:solidFill>
                    <a:srgbClr val="ffffff"/>
                  </a:solidFill>
                  <a:latin typeface="굴림체"/>
                </a:endParaRPr>
              </a:p>
            </p:txBody>
          </p:sp>
        </p:grpSp>
      </p:grpSp>
      <p:grpSp>
        <p:nvGrpSpPr>
          <p:cNvPr id="291" name="직사각형 29"/>
          <p:cNvGrpSpPr/>
          <p:nvPr/>
        </p:nvGrpSpPr>
        <p:grpSpPr>
          <a:xfrm>
            <a:off x="401760" y="2633760"/>
            <a:ext cx="8381880" cy="1066680"/>
            <a:chOff x="401760" y="2633760"/>
            <a:chExt cx="8381880" cy="1066680"/>
          </a:xfrm>
        </p:grpSpPr>
        <p:pic>
          <p:nvPicPr>
            <p:cNvPr id="292" name="직사각형 29" descr=""/>
            <p:cNvPicPr/>
            <p:nvPr/>
          </p:nvPicPr>
          <p:blipFill>
            <a:blip r:embed="rId7"/>
            <a:stretch/>
          </p:blipFill>
          <p:spPr>
            <a:xfrm>
              <a:off x="401760" y="2633760"/>
              <a:ext cx="83818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5120" y="2670120"/>
              <a:ext cx="82659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Productivity increase [554.3million USD] 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+ Reduction of extra fees [2.11billion USD] 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+ Reduction of redundant investment in the IT sector [318million USD] </a:t>
              </a:r>
              <a:endParaRPr b="1" lang="en-US" sz="1600" spc="-1" strike="noStrike">
                <a:solidFill>
                  <a:srgbClr val="ffffff"/>
                </a:solidFill>
                <a:latin typeface="굴림체"/>
              </a:endParaRPr>
            </a:p>
          </p:txBody>
        </p:sp>
      </p:grpSp>
      <p:sp>
        <p:nvSpPr>
          <p:cNvPr id="294" name="Rectangle 2"/>
          <p:cNvSpPr/>
          <p:nvPr/>
        </p:nvSpPr>
        <p:spPr>
          <a:xfrm>
            <a:off x="112680" y="184320"/>
            <a:ext cx="8894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295" name="제목 1"/>
          <p:cNvSpPr/>
          <p:nvPr/>
        </p:nvSpPr>
        <p:spPr>
          <a:xfrm>
            <a:off x="137160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중고딕"/>
              </a:rPr>
              <a:t>Expected Economic Benefits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214200" y="2035080"/>
          <a:ext cx="8786880" cy="4394160"/>
        </p:xfrm>
        <a:graphic>
          <a:graphicData uri="http://schemas.openxmlformats.org/drawingml/2006/table">
            <a:tbl>
              <a:tblPr/>
              <a:tblGrid>
                <a:gridCol w="2506680"/>
                <a:gridCol w="6280200"/>
              </a:tblGrid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LG ELECTRONIC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8b8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Reduced Labor costs, documents handling charges, etc. by 30mil USD for a yea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8b8b"/>
                    </a:solidFill>
                  </a:tcPr>
                </a:tc>
              </a:tr>
              <a:tr h="173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SAMSUNG ELECTRONIC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de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Reduced labor for the customs clearance department by 50% : 89 persons → 43 person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Shortening of working hours and process simplification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:  25days → 5days, 53steps → 17steps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ded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INTERFLEX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de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Reduction of extra fees for trading :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29,000 USD → 9,160 US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Shortening of the time required : 12hours → 30min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dede"/>
                    </a:solidFill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DAEWOO ELECTRONIC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de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5174"/>
                          </a:solidFill>
                          <a:latin typeface="HY울릉도M"/>
                          <a:ea typeface="HY울릉도M"/>
                        </a:rPr>
                        <a:t>Shortening of handling hours for shipping requests : 22mins per → 6mins pe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dede"/>
                    </a:solidFill>
                  </a:tcPr>
                </a:tc>
              </a:tr>
            </a:tbl>
          </a:graphicData>
        </a:graphic>
      </p:graphicFrame>
      <p:sp>
        <p:nvSpPr>
          <p:cNvPr id="297" name="Rectangle 3"/>
          <p:cNvSpPr/>
          <p:nvPr/>
        </p:nvSpPr>
        <p:spPr>
          <a:xfrm>
            <a:off x="536040" y="1233720"/>
            <a:ext cx="61333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e83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Cost saving cases in Paperless Trade</a:t>
            </a:r>
            <a:endParaRPr b="1" lang="en-US" sz="2400" spc="-1" strike="noStrike">
              <a:solidFill>
                <a:srgbClr val="ffffff"/>
              </a:solidFill>
              <a:latin typeface="굴림체"/>
            </a:endParaRPr>
          </a:p>
        </p:txBody>
      </p:sp>
      <p:pic>
        <p:nvPicPr>
          <p:cNvPr id="298" name="Picture 4" descr="3"/>
          <p:cNvPicPr/>
          <p:nvPr/>
        </p:nvPicPr>
        <p:blipFill>
          <a:blip r:embed="rId1"/>
          <a:stretch/>
        </p:blipFill>
        <p:spPr>
          <a:xfrm>
            <a:off x="380880" y="1185840"/>
            <a:ext cx="355680" cy="457200"/>
          </a:xfrm>
          <a:prstGeom prst="rect">
            <a:avLst/>
          </a:prstGeom>
          <a:ln w="0">
            <a:noFill/>
          </a:ln>
        </p:spPr>
      </p:pic>
      <p:sp>
        <p:nvSpPr>
          <p:cNvPr id="299" name="제목 1"/>
          <p:cNvSpPr/>
          <p:nvPr/>
        </p:nvSpPr>
        <p:spPr>
          <a:xfrm>
            <a:off x="137160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중고딕"/>
              </a:rPr>
              <a:t>Expected Economic Benefits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168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</a:rPr>
              <a:t>Future task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직사각형 4"/>
          <p:cNvSpPr/>
          <p:nvPr/>
        </p:nvSpPr>
        <p:spPr>
          <a:xfrm>
            <a:off x="928800" y="1571760"/>
            <a:ext cx="7215120" cy="4643280"/>
          </a:xfrm>
          <a:prstGeom prst="rect">
            <a:avLst/>
          </a:prstGeom>
          <a:solidFill>
            <a:srgbClr val="228b8b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a commitment of government for effective e-Commerce infrastructure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simultaneous reforms in a number of sectors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systems integration based on Public-Private Partnership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entire trade transaction cycle ; not standard harmonization or customs modernization alone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helping developing countries for entire systems integration 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03" name="직사각형 3"/>
          <p:cNvSpPr/>
          <p:nvPr/>
        </p:nvSpPr>
        <p:spPr>
          <a:xfrm>
            <a:off x="571680" y="1285920"/>
            <a:ext cx="7072200" cy="571320"/>
          </a:xfrm>
          <a:prstGeom prst="rect">
            <a:avLst/>
          </a:prstGeom>
          <a:solidFill>
            <a:srgbClr val="0d5dff"/>
          </a:solidFill>
          <a:ln w="25560">
            <a:solidFill>
              <a:srgbClr val="2251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w to find unexplored synergies in Paperless Trade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Tas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49200" y="4089240"/>
            <a:ext cx="8429760" cy="24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Bef>
                <a:spcPts val="550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Why is Joint Project essential for e-Trade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74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Consideration linking  e-Trade Platform of each countr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International support is necessary based on public and private partnership of each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we need to define where we can initiate joint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357120" y="3430080"/>
            <a:ext cx="3014640" cy="459720"/>
          </a:xfrm>
          <a:prstGeom prst="rect">
            <a:avLst/>
          </a:prstGeom>
          <a:noFill/>
          <a:ln w="38160">
            <a:solidFill>
              <a:srgbClr val="a3c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int projects</a:t>
            </a:r>
            <a:endParaRPr b="1" lang="en-US" sz="24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357120" y="1143000"/>
            <a:ext cx="5015160" cy="459720"/>
          </a:xfrm>
          <a:prstGeom prst="rect">
            <a:avLst/>
          </a:prstGeom>
          <a:noFill/>
          <a:ln w="38160">
            <a:solidFill>
              <a:srgbClr val="a3c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peration among countries</a:t>
            </a:r>
            <a:endParaRPr b="1" lang="en-US" sz="24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08" name="내용 개체 틀 2"/>
          <p:cNvSpPr/>
          <p:nvPr/>
        </p:nvSpPr>
        <p:spPr>
          <a:xfrm>
            <a:off x="357120" y="1857240"/>
            <a:ext cx="8501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Arial"/>
                <a:ea typeface="맑은 고딕"/>
              </a:rPr>
              <a:t>How do we build a partnership in borderless trade?</a:t>
            </a:r>
            <a:endParaRPr b="1" lang="en-US" sz="2200" spc="-1" strike="noStrike">
              <a:solidFill>
                <a:srgbClr val="ffffff"/>
              </a:solidFill>
              <a:latin typeface="굴림체"/>
            </a:endParaRPr>
          </a:p>
          <a:p>
            <a:pPr marL="181080" indent="-181080">
              <a:lnSpc>
                <a:spcPct val="100000"/>
              </a:lnSpc>
              <a:spcBef>
                <a:spcPts val="74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ffffff"/>
              </a:solidFill>
              <a:latin typeface="굴림체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맑은 고딕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맑은 고딕"/>
              </a:rPr>
              <a:t>- Information sharing efforts about legal frame and IT infrastructure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181080" indent="-181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ffffff"/>
              </a:solidFill>
              <a:latin typeface="굴림체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맑은 고딕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맑은 고딕"/>
              </a:rPr>
              <a:t>- Constant progress reports of each project 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260280" y="217440"/>
            <a:ext cx="88948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310" name="제목 1"/>
          <p:cNvSpPr/>
          <p:nvPr/>
        </p:nvSpPr>
        <p:spPr>
          <a:xfrm>
            <a:off x="137160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HY헤드라인M"/>
              </a:rPr>
              <a:t>Future Tasks</a:t>
            </a:r>
            <a:endParaRPr b="1" lang="en-US" sz="28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209680" y="3657240"/>
            <a:ext cx="502920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울릉도M"/>
                <a:ea typeface="굴림"/>
              </a:rPr>
              <a:t>www.utradehub.or.k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WordArt 3"/>
          <p:cNvSpPr txBox="1"/>
          <p:nvPr/>
        </p:nvSpPr>
        <p:spPr>
          <a:xfrm>
            <a:off x="2209680" y="2743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2e83b2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0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effectLst>
                <a:outerShdw dist="81185" dir="2321969" blurRad="0" rotWithShape="0">
                  <a:srgbClr val="2e83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168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</a:rPr>
              <a:t>Background of Paperless Tr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 of Trade Facil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de Facili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ediments in gene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stoms administr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dards and technical regul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s to the mobility of business peop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직사각형 4"/>
          <p:cNvSpPr/>
          <p:nvPr/>
        </p:nvSpPr>
        <p:spPr>
          <a:xfrm>
            <a:off x="1071720" y="1785960"/>
            <a:ext cx="7000560" cy="1785960"/>
          </a:xfrm>
          <a:prstGeom prst="rect">
            <a:avLst/>
          </a:prstGeom>
          <a:solidFill>
            <a:srgbClr val="228b8b"/>
          </a:solidFill>
          <a:ln w="25560">
            <a:solidFill>
              <a:srgbClr val="2362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siness facilitation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utting red tape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implification of procedural and administrative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pediments to trade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y is it difficult to implemen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vertheless, we have to go on. 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 of Trade Facil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직사각형 4"/>
          <p:cNvSpPr/>
          <p:nvPr/>
        </p:nvSpPr>
        <p:spPr>
          <a:xfrm>
            <a:off x="2143080" y="1714680"/>
            <a:ext cx="5000760" cy="1785600"/>
          </a:xfrm>
          <a:prstGeom prst="rect">
            <a:avLst/>
          </a:prstGeom>
          <a:solidFill>
            <a:srgbClr val="228b8b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Essential but not attention grabbing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Highly technical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ainstaking to reform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굴림체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. Expensive to implement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</p:txBody>
      </p:sp>
      <p:sp>
        <p:nvSpPr>
          <p:cNvPr id="136" name="타원 6"/>
          <p:cNvSpPr/>
          <p:nvPr/>
        </p:nvSpPr>
        <p:spPr>
          <a:xfrm>
            <a:off x="1785960" y="4500720"/>
            <a:ext cx="5643720" cy="2143080"/>
          </a:xfrm>
          <a:prstGeom prst="ellipse">
            <a:avLst/>
          </a:prstGeom>
          <a:solidFill>
            <a:srgbClr val="287098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de Facilitation reflects the economy as a whole. Based on APEC research it will add 0.25% of real GDP to APEC member economies.</a:t>
            </a:r>
            <a:endParaRPr b="1" lang="en-US" sz="2000" spc="-1" strike="noStrike">
              <a:solidFill>
                <a:srgbClr val="ffffff"/>
              </a:solidFill>
              <a:latin typeface="굴림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EC’s Trade Facilitation Agen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 facilitation are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stoms procedu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dards and Technical regul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bor mobil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ortance of e-Commerce for Trade Facili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ving great potential by developed IT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ding efficient electronic working environmen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ernizing customs administr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ducing administration delay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ITRAL model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4920" y="1196640"/>
            <a:ext cx="82486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1666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CITRA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1666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United Nations Commission on International Trade La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Organization for enacting commercial law on international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trade and transa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1666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CTs - related La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1666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Model Law on Electronic Commerce(1996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Model Law on Electronic Signatures(200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Convention on the Use of Electronic Communications in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992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HY울릉도M"/>
              </a:rPr>
              <a:t>Electronic Contracts(2005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166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166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ICTs - Information and Communications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ITRAL model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rits of the e-Trade Platfor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ducing trade-related cos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mplifying administrative process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ment of the e-Trade Platfor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ncipal ag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7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mal agreement defining roles &amp; responsibil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d user agree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85920" y="3816360"/>
          <a:ext cx="6095880" cy="1257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HY울릉도M"/>
                        </a:rPr>
                        <a:t>Governmental Organization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5174"/>
                          </a:solidFill>
                          <a:latin typeface="Arial"/>
                          <a:ea typeface="HY울릉도M"/>
                        </a:rPr>
                        <a:t>Private Business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5174"/>
                          </a:solidFill>
                          <a:latin typeface="Arial"/>
                          <a:ea typeface="HY울릉도M"/>
                        </a:rPr>
                        <a:t>Joint project by Public-Private Partnershi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굴림체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ITRAL model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cessing dat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mechanism must be commonly mutually recogniz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thoriz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2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prot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compliance with all relevant privacy and personal dat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ction la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2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ess to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grity of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uracy of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168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0:52:01Z</dcterms:created>
  <dc:creator>박종덕</dc:creator>
  <dc:description/>
  <dc:language>en-US</dc:language>
  <cp:lastModifiedBy>ESCAP</cp:lastModifiedBy>
  <dcterms:modified xsi:type="dcterms:W3CDTF">2010-07-16T06:51:14Z</dcterms:modified>
  <cp:revision>505</cp:revision>
  <dc:subject/>
  <dc:title>KIEC SG 심사 발표 자료</dc:title>
</cp:coreProperties>
</file>